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applause.wav" ContentType="audio/x-wav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5.jpeg" ContentType="image/jpeg"/>
  <Override PartName="/ppt/media/image44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49.wmf" ContentType="image/x-wmf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54.png" ContentType="image/png"/>
  <Override PartName="/ppt/media/image37.wmf" ContentType="image/x-wmf"/>
  <Override PartName="/ppt/media/image43.wmf" ContentType="image/x-wmf"/>
  <Override PartName="/ppt/media/image56.png" ContentType="image/png"/>
  <Override PartName="/ppt/media/image36.wmf" ContentType="image/x-wmf"/>
  <Override PartName="/ppt/media/whoosh.wav" ContentType="audio/x-wav"/>
  <Override PartName="/ppt/media/image30.png" ContentType="image/png"/>
  <Override PartName="/ppt/media/image39.png" ContentType="image/png"/>
  <Override PartName="/ppt/media/image42.wmf" ContentType="image/x-wmf"/>
  <Override PartName="/ppt/media/image9.png" ContentType="image/png"/>
  <Override PartName="/ppt/media/image8.png" ContentType="image/png"/>
  <Override PartName="/ppt/media/image53.wmf" ContentType="image/x-wmf"/>
  <Override PartName="/ppt/media/image13.png" ContentType="image/png"/>
  <Override PartName="/ppt/media/image12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9E6-1B86-4D44-8C9E-E232E3D4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685-E47D-479F-AE5E-66E2FE3B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E24-6196-435A-946D-D1B7992F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5FC-E5D1-484A-B4DC-BC7254C9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8A84-C3A3-4DE7-B19D-6AE82081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EDFD-0CB2-42F3-9B26-384E7AED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AB84-6B04-41E6-8019-F4758685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5F31-F972-4929-A16D-7B6D1683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03AA-1E26-4CD2-805B-95B2A0B3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1871-6601-4538-8B10-5D072F42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D757-6EE4-4DF9-9CE9-B6374D4B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1D2-2757-427B-9689-55FAC62F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0D69-0AE5-407C-8BC6-BEAB28E1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99A2-2CF6-4282-A1B3-D15AE2B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2297-910F-4CB1-A9CB-073E4047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7154-5699-4C46-B29E-D45EBE0F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5151-FFE5-47E5-80E2-1AC2FA72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AA0A0-DEA8-4981-AA9D-ED9078BE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4B7F-B4A8-4B0F-8654-0FA9AE80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39C1-6724-48CB-844F-9852DF1B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97B9-A6DB-4115-80B5-F0C2EFF0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A616-D659-43E6-9064-48847452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9F3-F811-4F48-B80F-D7C9F782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C792-9242-4848-9D54-446419E0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1125C-AEEB-490A-9917-4D208BC0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BAFC-9697-48B4-8A19-A71DA7E3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9F74-CAE3-4C87-AD40-2FE2ECA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A0AB-4B5E-40FE-A151-74FEEB3C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2828-E110-4B6B-8FC9-13BA616E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176AB-5DB5-4B36-8535-5A106AEC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C72EC-0040-4F6F-B9A8-4D1C47A0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AB8D-2324-4E2D-9E6E-778A56B4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A2DA-4E5E-48D7-A482-B5EFDF1A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DF8-6FB3-4C1C-861F-7AB6905F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6F47-97E2-49DC-9369-733B7929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8A0A7-BE81-41E3-9C9A-F7D1B5A9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E0A2-340C-4657-899B-E3239D44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CCDC-5913-413D-B4BE-815E7C86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6A87-824B-4C91-9850-DA259E68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EBB1-6B69-424C-900C-B560A075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69685-BAB1-402E-B01F-B14A6601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CECA9-5EB3-47F5-A69C-3ACEC79D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DF620-4F68-41FC-B5B2-A1B31D25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80563-44BB-49B6-A6E7-F10206CC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CC6-91BB-4F5E-9E0D-3AC4EC0D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0A98E-A9AE-4026-B1DE-81A32778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5EF2-0C2C-4888-B238-DD2BB36C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9C426-4650-4243-8939-CB8045F3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5406E-5771-4AAD-AEC2-A03DE58C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0330F-345D-4D6B-B9C1-860038B1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46F3F-24AB-46AE-8953-4F6920A3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EA10-47C6-46F1-A30A-9CF4E5D7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203E5-AF8D-49D6-AA73-4BDF7448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CA9DC-0B87-43FB-84A6-B850E724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1F833-503C-43F6-8585-A369DA0E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92F-0126-402D-A30D-EF738BAD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9055B-2ADE-4E1B-9B1C-76BC7B4B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1E129-A345-4106-849B-9C8D31A1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CE057-C41F-4D99-9D98-E8064ACB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C0FA0-E4AC-432E-81CA-81384E96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8A3EE-308A-4074-8C7D-51CCA0A6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05915-62FA-49D7-828F-AE3004A8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3536-6255-4787-AA23-A993B54D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859A-5DC9-4E53-8DBD-0707BA16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190AC-E521-4D5D-A166-74FF9100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951F7-7B23-4E1C-AA91-74C8181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EBD-0991-4237-87C7-2B44F05E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B6A39-2057-4780-99B3-8DA6A401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9BB62-26A7-43AA-85BA-9F7AC646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8A0E9-E494-4C4B-BACD-297D9D28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54E-53A1-4ED6-B0C6-0BF09065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879-03C0-4CBE-8947-DBDBABE9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5.png"/><Relationship Id="rId4" Type="http://schemas.openxmlformats.org/officeDocument/2006/relationships/image" Target="../media/image2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597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1" name="Rectangle 1597" descr=""/>
            <p:cNvPicPr/>
            <p:nvPr/>
          </p:nvPicPr>
          <p:blipFill>
            <a:blip r:embed="rId3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Picture 1554" descr="vines15.png"/>
          <p:cNvPicPr/>
          <p:nvPr/>
        </p:nvPicPr>
        <p:blipFill>
          <a:blip r:embed="rId4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0F0F-533E-4C12-80DB-15E3C6CE87E3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854"/>
          <p:cNvGrpSpPr/>
          <p:nvPr/>
        </p:nvGrpSpPr>
        <p:grpSpPr>
          <a:xfrm>
            <a:off x="7264080" y="973800"/>
            <a:ext cx="884880" cy="701640"/>
            <a:chOff x="7264080" y="973800"/>
            <a:chExt cx="884880" cy="701640"/>
          </a:xfrm>
        </p:grpSpPr>
        <p:sp>
          <p:nvSpPr>
            <p:cNvPr id="10" name="AutoShape 3"/>
            <p:cNvSpPr/>
            <p:nvPr/>
          </p:nvSpPr>
          <p:spPr>
            <a:xfrm rot="276600">
              <a:off x="7292880" y="1012320"/>
              <a:ext cx="83052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56"/>
            <p:cNvSpPr/>
            <p:nvPr/>
          </p:nvSpPr>
          <p:spPr>
            <a:xfrm rot="276600">
              <a:off x="7288200" y="1006200"/>
              <a:ext cx="836640" cy="636480"/>
            </a:xfrm>
            <a:prstGeom prst="pie">
              <a:avLst/>
            </a:prstGeom>
            <a:solidFill>
              <a:srgbClr val="7598d9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Group 296" descr=""/>
            <p:cNvPicPr/>
            <p:nvPr/>
          </p:nvPicPr>
          <p:blipFill>
            <a:blip r:embed="rId5"/>
            <a:stretch/>
          </p:blipFill>
          <p:spPr>
            <a:xfrm>
              <a:off x="7571160" y="1170360"/>
              <a:ext cx="1890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Freeform 283"/>
            <p:cNvSpPr/>
            <p:nvPr/>
          </p:nvSpPr>
          <p:spPr>
            <a:xfrm rot="276600">
              <a:off x="7642080" y="1093680"/>
              <a:ext cx="63360" cy="1728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84"/>
            <p:cNvSpPr/>
            <p:nvPr/>
          </p:nvSpPr>
          <p:spPr>
            <a:xfrm rot="276600">
              <a:off x="7728120" y="1095120"/>
              <a:ext cx="60120" cy="1746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Group 895"/>
          <p:cNvGrpSpPr/>
          <p:nvPr/>
        </p:nvGrpSpPr>
        <p:grpSpPr>
          <a:xfrm>
            <a:off x="8005320" y="1623600"/>
            <a:ext cx="996480" cy="1107720"/>
            <a:chOff x="8005320" y="1623600"/>
            <a:chExt cx="996480" cy="1107720"/>
          </a:xfrm>
        </p:grpSpPr>
        <p:sp>
          <p:nvSpPr>
            <p:cNvPr id="16" name="AutoShape 3"/>
            <p:cNvSpPr/>
            <p:nvPr/>
          </p:nvSpPr>
          <p:spPr>
            <a:xfrm rot="3978000">
              <a:off x="8059320" y="1842840"/>
              <a:ext cx="89856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897"/>
            <p:cNvSpPr/>
            <p:nvPr/>
          </p:nvSpPr>
          <p:spPr>
            <a:xfrm rot="3978000">
              <a:off x="8049960" y="1832040"/>
              <a:ext cx="906480" cy="690480"/>
            </a:xfrm>
            <a:prstGeom prst="pie">
              <a:avLst/>
            </a:prstGeom>
            <a:solidFill>
              <a:srgbClr val="b32c16">
                <a:alpha val="7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" name="Group 296" descr=""/>
            <p:cNvPicPr/>
            <p:nvPr/>
          </p:nvPicPr>
          <p:blipFill>
            <a:blip r:embed="rId6"/>
            <a:stretch/>
          </p:blipFill>
          <p:spPr>
            <a:xfrm rot="21599400">
              <a:off x="8430840" y="2005200"/>
              <a:ext cx="195120" cy="20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" name="Group 281"/>
            <p:cNvGrpSpPr/>
            <p:nvPr/>
          </p:nvGrpSpPr>
          <p:grpSpPr>
            <a:xfrm>
              <a:off x="8425080" y="2229840"/>
              <a:ext cx="86760" cy="138600"/>
              <a:chOff x="8425080" y="2229840"/>
              <a:chExt cx="86760" cy="138600"/>
            </a:xfrm>
          </p:grpSpPr>
          <p:sp>
            <p:nvSpPr>
              <p:cNvPr id="20" name="Freeform 50"/>
              <p:cNvSpPr/>
              <p:nvPr/>
            </p:nvSpPr>
            <p:spPr>
              <a:xfrm rot="3978000">
                <a:off x="8438760" y="2300400"/>
                <a:ext cx="60120" cy="576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51"/>
              <p:cNvSpPr/>
              <p:nvPr/>
            </p:nvSpPr>
            <p:spPr>
              <a:xfrm rot="3978000">
                <a:off x="8452800" y="2302560"/>
                <a:ext cx="42480" cy="316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81"/>
              <p:cNvSpPr/>
              <p:nvPr/>
            </p:nvSpPr>
            <p:spPr>
              <a:xfrm rot="3978000">
                <a:off x="8449560" y="2223720"/>
                <a:ext cx="37800" cy="78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82"/>
              <p:cNvSpPr/>
              <p:nvPr/>
            </p:nvSpPr>
            <p:spPr>
              <a:xfrm rot="3978000">
                <a:off x="8458200" y="2227320"/>
                <a:ext cx="12600" cy="604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" name="Freeform 283"/>
            <p:cNvSpPr/>
            <p:nvPr/>
          </p:nvSpPr>
          <p:spPr>
            <a:xfrm rot="3978000">
              <a:off x="8588160" y="1977840"/>
              <a:ext cx="69840" cy="1872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4"/>
            <p:cNvSpPr/>
            <p:nvPr/>
          </p:nvSpPr>
          <p:spPr>
            <a:xfrm rot="3978000">
              <a:off x="8631360" y="2057040"/>
              <a:ext cx="64800" cy="188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Group 941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27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943"/>
            <p:cNvSpPr/>
            <p:nvPr/>
          </p:nvSpPr>
          <p:spPr>
            <a:xfrm rot="2467200">
              <a:off x="1215720" y="6016320"/>
              <a:ext cx="696960" cy="530280"/>
            </a:xfrm>
            <a:prstGeom prst="pie">
              <a:avLst/>
            </a:prstGeom>
            <a:solidFill>
              <a:srgbClr val="777c84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" name="Group 296" descr=""/>
            <p:cNvPicPr/>
            <p:nvPr/>
          </p:nvPicPr>
          <p:blipFill>
            <a:blip r:embed="rId7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" name="Group 289"/>
            <p:cNvGrpSpPr/>
            <p:nvPr/>
          </p:nvGrpSpPr>
          <p:grpSpPr>
            <a:xfrm>
              <a:off x="1563840" y="6028560"/>
              <a:ext cx="15120" cy="44280"/>
              <a:chOff x="1563840" y="6028560"/>
              <a:chExt cx="15120" cy="44280"/>
            </a:xfrm>
          </p:grpSpPr>
          <p:sp>
            <p:nvSpPr>
              <p:cNvPr id="31" name="Freeform 953"/>
              <p:cNvSpPr/>
              <p:nvPr/>
            </p:nvSpPr>
            <p:spPr>
              <a:xfrm rot="2467200">
                <a:off x="1564560" y="6040800"/>
                <a:ext cx="648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954"/>
              <p:cNvSpPr/>
              <p:nvPr/>
            </p:nvSpPr>
            <p:spPr>
              <a:xfrm rot="2467200">
                <a:off x="1571400" y="6054480"/>
                <a:ext cx="4680" cy="6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955"/>
              <p:cNvSpPr/>
              <p:nvPr/>
            </p:nvSpPr>
            <p:spPr>
              <a:xfrm rot="2467200">
                <a:off x="1577160" y="6070680"/>
                <a:ext cx="14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956"/>
              <p:cNvSpPr/>
              <p:nvPr/>
            </p:nvSpPr>
            <p:spPr>
              <a:xfrm rot="2467200">
                <a:off x="1564560" y="6029640"/>
                <a:ext cx="46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" name="Group 281"/>
            <p:cNvGrpSpPr/>
            <p:nvPr/>
          </p:nvGrpSpPr>
          <p:grpSpPr>
            <a:xfrm>
              <a:off x="1537920" y="6320520"/>
              <a:ext cx="84960" cy="109800"/>
              <a:chOff x="1537920" y="6320520"/>
              <a:chExt cx="84960" cy="109800"/>
            </a:xfrm>
          </p:grpSpPr>
          <p:sp>
            <p:nvSpPr>
              <p:cNvPr id="36" name="Freeform 50"/>
              <p:cNvSpPr/>
              <p:nvPr/>
            </p:nvSpPr>
            <p:spPr>
              <a:xfrm rot="2467200">
                <a:off x="1567440" y="6375960"/>
                <a:ext cx="46440" cy="446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51"/>
              <p:cNvSpPr/>
              <p:nvPr/>
            </p:nvSpPr>
            <p:spPr>
              <a:xfrm rot="2467200">
                <a:off x="1572120" y="6379200"/>
                <a:ext cx="34200" cy="23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281"/>
              <p:cNvSpPr/>
              <p:nvPr/>
            </p:nvSpPr>
            <p:spPr>
              <a:xfrm rot="2467200">
                <a:off x="1553760" y="6322680"/>
                <a:ext cx="29520" cy="604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282"/>
              <p:cNvSpPr/>
              <p:nvPr/>
            </p:nvSpPr>
            <p:spPr>
              <a:xfrm rot="2467200">
                <a:off x="1558080" y="6328800"/>
                <a:ext cx="10800" cy="460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" name="Freeform 283"/>
            <p:cNvSpPr/>
            <p:nvPr/>
          </p:nvSpPr>
          <p:spPr>
            <a:xfrm rot="2467200">
              <a:off x="1587240" y="6095880"/>
              <a:ext cx="5364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284"/>
            <p:cNvSpPr/>
            <p:nvPr/>
          </p:nvSpPr>
          <p:spPr>
            <a:xfrm rot="2467200">
              <a:off x="1644480" y="6140160"/>
              <a:ext cx="5076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Group 992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43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994"/>
            <p:cNvSpPr/>
            <p:nvPr/>
          </p:nvSpPr>
          <p:spPr>
            <a:xfrm rot="3025200">
              <a:off x="363240" y="6229440"/>
              <a:ext cx="556920" cy="423720"/>
            </a:xfrm>
            <a:prstGeom prst="pie">
              <a:avLst/>
            </a:prstGeom>
            <a:solidFill>
              <a:srgbClr val="f5cd2d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Group 296" descr=""/>
            <p:cNvPicPr/>
            <p:nvPr/>
          </p:nvPicPr>
          <p:blipFill>
            <a:blip r:embed="rId8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Group 281"/>
            <p:cNvGrpSpPr/>
            <p:nvPr/>
          </p:nvGrpSpPr>
          <p:grpSpPr>
            <a:xfrm>
              <a:off x="609840" y="6473520"/>
              <a:ext cx="62640" cy="88920"/>
              <a:chOff x="609840" y="6473520"/>
              <a:chExt cx="62640" cy="88920"/>
            </a:xfrm>
          </p:grpSpPr>
          <p:sp>
            <p:nvSpPr>
              <p:cNvPr id="47" name="Freeform 50"/>
              <p:cNvSpPr/>
              <p:nvPr/>
            </p:nvSpPr>
            <p:spPr>
              <a:xfrm rot="3025200">
                <a:off x="627840" y="6518880"/>
                <a:ext cx="37800" cy="34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51"/>
              <p:cNvSpPr/>
              <p:nvPr/>
            </p:nvSpPr>
            <p:spPr>
              <a:xfrm rot="3025200">
                <a:off x="632880" y="6520320"/>
                <a:ext cx="26640" cy="20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281"/>
              <p:cNvSpPr/>
              <p:nvPr/>
            </p:nvSpPr>
            <p:spPr>
              <a:xfrm rot="3025200">
                <a:off x="623880" y="6473880"/>
                <a:ext cx="23760" cy="478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282"/>
              <p:cNvSpPr/>
              <p:nvPr/>
            </p:nvSpPr>
            <p:spPr>
              <a:xfrm rot="3025200">
                <a:off x="625320" y="6476400"/>
                <a:ext cx="9360" cy="367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283"/>
            <p:cNvSpPr/>
            <p:nvPr/>
          </p:nvSpPr>
          <p:spPr>
            <a:xfrm rot="3025200">
              <a:off x="674280" y="6300720"/>
              <a:ext cx="4284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84"/>
            <p:cNvSpPr/>
            <p:nvPr/>
          </p:nvSpPr>
          <p:spPr>
            <a:xfrm rot="3025200">
              <a:off x="713880" y="6341760"/>
              <a:ext cx="3960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61"/>
          <p:cNvGrpSpPr/>
          <p:nvPr/>
        </p:nvGrpSpPr>
        <p:grpSpPr>
          <a:xfrm>
            <a:off x="7895520" y="383760"/>
            <a:ext cx="694800" cy="645120"/>
            <a:chOff x="7895520" y="383760"/>
            <a:chExt cx="694800" cy="645120"/>
          </a:xfrm>
        </p:grpSpPr>
        <p:sp>
          <p:nvSpPr>
            <p:cNvPr id="54" name="AutoShape 3"/>
            <p:cNvSpPr/>
            <p:nvPr/>
          </p:nvSpPr>
          <p:spPr>
            <a:xfrm rot="1778400">
              <a:off x="7969320" y="497880"/>
              <a:ext cx="552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63"/>
            <p:cNvSpPr/>
            <p:nvPr/>
          </p:nvSpPr>
          <p:spPr>
            <a:xfrm rot="1778400">
              <a:off x="7964280" y="493560"/>
              <a:ext cx="556920" cy="42552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Group 296" descr=""/>
            <p:cNvPicPr/>
            <p:nvPr/>
          </p:nvPicPr>
          <p:blipFill>
            <a:blip r:embed="rId9"/>
            <a:stretch/>
          </p:blipFill>
          <p:spPr>
            <a:xfrm>
              <a:off x="8168760" y="585000"/>
              <a:ext cx="13392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Freeform 283"/>
            <p:cNvSpPr/>
            <p:nvPr/>
          </p:nvSpPr>
          <p:spPr>
            <a:xfrm rot="1778400">
              <a:off x="8241840" y="551880"/>
              <a:ext cx="42840" cy="1141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84"/>
            <p:cNvSpPr/>
            <p:nvPr/>
          </p:nvSpPr>
          <p:spPr>
            <a:xfrm rot="1778400">
              <a:off x="8292600" y="575640"/>
              <a:ext cx="41040" cy="117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502"/>
          <p:cNvGrpSpPr/>
          <p:nvPr/>
        </p:nvGrpSpPr>
        <p:grpSpPr>
          <a:xfrm>
            <a:off x="351720" y="4811040"/>
            <a:ext cx="1306800" cy="1230120"/>
            <a:chOff x="351720" y="4811040"/>
            <a:chExt cx="1306800" cy="1230120"/>
          </a:xfrm>
        </p:grpSpPr>
        <p:sp>
          <p:nvSpPr>
            <p:cNvPr id="60" name="AutoShape 3"/>
            <p:cNvSpPr/>
            <p:nvPr/>
          </p:nvSpPr>
          <p:spPr>
            <a:xfrm rot="1936800">
              <a:off x="493560" y="5035680"/>
              <a:ext cx="10324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504"/>
            <p:cNvSpPr/>
            <p:nvPr/>
          </p:nvSpPr>
          <p:spPr>
            <a:xfrm rot="1936800">
              <a:off x="483840" y="5027760"/>
              <a:ext cx="1042200" cy="796680"/>
            </a:xfrm>
            <a:prstGeom prst="pie">
              <a:avLst/>
            </a:prstGeom>
            <a:solidFill>
              <a:srgbClr val="aebad5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Group 296" descr=""/>
            <p:cNvPicPr/>
            <p:nvPr/>
          </p:nvPicPr>
          <p:blipFill>
            <a:blip r:embed="rId10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289"/>
            <p:cNvGrpSpPr/>
            <p:nvPr/>
          </p:nvGrpSpPr>
          <p:grpSpPr>
            <a:xfrm>
              <a:off x="946080" y="5050440"/>
              <a:ext cx="30600" cy="62640"/>
              <a:chOff x="946080" y="5050440"/>
              <a:chExt cx="30600" cy="62640"/>
            </a:xfrm>
          </p:grpSpPr>
          <p:sp>
            <p:nvSpPr>
              <p:cNvPr id="64" name="Freeform 1514"/>
              <p:cNvSpPr/>
              <p:nvPr/>
            </p:nvSpPr>
            <p:spPr>
              <a:xfrm rot="1936800">
                <a:off x="949320" y="5069880"/>
                <a:ext cx="9720" cy="97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15"/>
              <p:cNvSpPr/>
              <p:nvPr/>
            </p:nvSpPr>
            <p:spPr>
              <a:xfrm rot="1936800">
                <a:off x="961200" y="5087520"/>
                <a:ext cx="6480" cy="97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16"/>
              <p:cNvSpPr/>
              <p:nvPr/>
            </p:nvSpPr>
            <p:spPr>
              <a:xfrm rot="1936800">
                <a:off x="973080" y="5110920"/>
                <a:ext cx="32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17"/>
              <p:cNvSpPr/>
              <p:nvPr/>
            </p:nvSpPr>
            <p:spPr>
              <a:xfrm rot="1936800">
                <a:off x="946440" y="5051880"/>
                <a:ext cx="648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81"/>
            <p:cNvGrpSpPr/>
            <p:nvPr/>
          </p:nvGrpSpPr>
          <p:grpSpPr>
            <a:xfrm>
              <a:off x="984600" y="5481000"/>
              <a:ext cx="132840" cy="158760"/>
              <a:chOff x="984600" y="5481000"/>
              <a:chExt cx="132840" cy="158760"/>
            </a:xfrm>
          </p:grpSpPr>
          <p:sp>
            <p:nvSpPr>
              <p:cNvPr id="69" name="Freeform 50"/>
              <p:cNvSpPr/>
              <p:nvPr/>
            </p:nvSpPr>
            <p:spPr>
              <a:xfrm rot="1936800">
                <a:off x="1035360" y="5559840"/>
                <a:ext cx="69480" cy="666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51"/>
              <p:cNvSpPr/>
              <p:nvPr/>
            </p:nvSpPr>
            <p:spPr>
              <a:xfrm rot="1936800">
                <a:off x="1041840" y="5563440"/>
                <a:ext cx="50400" cy="378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81"/>
              <p:cNvSpPr/>
              <p:nvPr/>
            </p:nvSpPr>
            <p:spPr>
              <a:xfrm rot="1936800">
                <a:off x="1005120" y="5485680"/>
                <a:ext cx="44280" cy="90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82"/>
              <p:cNvSpPr/>
              <p:nvPr/>
            </p:nvSpPr>
            <p:spPr>
              <a:xfrm rot="1936800">
                <a:off x="1011240" y="5493240"/>
                <a:ext cx="15840" cy="698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283"/>
            <p:cNvSpPr/>
            <p:nvPr/>
          </p:nvSpPr>
          <p:spPr>
            <a:xfrm rot="1936800">
              <a:off x="1013040" y="5138280"/>
              <a:ext cx="79200" cy="215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4"/>
            <p:cNvSpPr/>
            <p:nvPr/>
          </p:nvSpPr>
          <p:spPr>
            <a:xfrm rot="1936800">
              <a:off x="1105200" y="5189400"/>
              <a:ext cx="75960" cy="217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579"/>
          <p:cNvGrpSpPr/>
          <p:nvPr/>
        </p:nvGrpSpPr>
        <p:grpSpPr>
          <a:xfrm>
            <a:off x="772560" y="4156560"/>
            <a:ext cx="885240" cy="703440"/>
            <a:chOff x="772560" y="4156560"/>
            <a:chExt cx="885240" cy="703440"/>
          </a:xfrm>
        </p:grpSpPr>
        <p:sp>
          <p:nvSpPr>
            <p:cNvPr id="112" name="AutoShape 3"/>
            <p:cNvSpPr/>
            <p:nvPr/>
          </p:nvSpPr>
          <p:spPr>
            <a:xfrm rot="276600">
              <a:off x="801360" y="4195080"/>
              <a:ext cx="8305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86"/>
            <p:cNvSpPr/>
            <p:nvPr/>
          </p:nvSpPr>
          <p:spPr>
            <a:xfrm rot="276600">
              <a:off x="796680" y="4188960"/>
              <a:ext cx="836640" cy="638280"/>
            </a:xfrm>
            <a:prstGeom prst="pie">
              <a:avLst/>
            </a:prstGeom>
            <a:solidFill>
              <a:srgbClr val="7598d9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Group 296" descr=""/>
            <p:cNvPicPr/>
            <p:nvPr/>
          </p:nvPicPr>
          <p:blipFill>
            <a:blip r:embed="rId3"/>
            <a:stretch/>
          </p:blipFill>
          <p:spPr>
            <a:xfrm>
              <a:off x="1078920" y="4352400"/>
              <a:ext cx="1890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Freeform 283"/>
            <p:cNvSpPr/>
            <p:nvPr/>
          </p:nvSpPr>
          <p:spPr>
            <a:xfrm rot="276600">
              <a:off x="1150920" y="4276440"/>
              <a:ext cx="63360" cy="1731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84"/>
            <p:cNvSpPr/>
            <p:nvPr/>
          </p:nvSpPr>
          <p:spPr>
            <a:xfrm rot="276600">
              <a:off x="1236960" y="4277880"/>
              <a:ext cx="60120" cy="1746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32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118" name="Rectangle 32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326" descr="vines15.png"/>
          <p:cNvPicPr/>
          <p:nvPr/>
        </p:nvPicPr>
        <p:blipFill>
          <a:blip r:embed="rId5"/>
          <a:srcRect l="27276" t="11030" r="13283" b="37248"/>
          <a:stretch/>
        </p:blipFill>
        <p:spPr>
          <a:xfrm>
            <a:off x="0" y="1143000"/>
            <a:ext cx="7899480" cy="56530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581"/>
          <p:cNvGrpSpPr/>
          <p:nvPr/>
        </p:nvGrpSpPr>
        <p:grpSpPr>
          <a:xfrm>
            <a:off x="5959080" y="184680"/>
            <a:ext cx="2957040" cy="2732760"/>
            <a:chOff x="5959080" y="184680"/>
            <a:chExt cx="2957040" cy="2732760"/>
          </a:xfrm>
        </p:grpSpPr>
        <p:sp>
          <p:nvSpPr>
            <p:cNvPr id="122" name="AutoShape 3"/>
            <p:cNvSpPr/>
            <p:nvPr/>
          </p:nvSpPr>
          <p:spPr>
            <a:xfrm rot="1638600">
              <a:off x="6273360" y="645120"/>
              <a:ext cx="2352240" cy="178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29"/>
            <p:cNvSpPr/>
            <p:nvPr/>
          </p:nvSpPr>
          <p:spPr>
            <a:xfrm rot="1638600">
              <a:off x="6251040" y="625680"/>
              <a:ext cx="2372760" cy="1850400"/>
            </a:xfrm>
            <a:prstGeom prst="pie">
              <a:avLst/>
            </a:prstGeom>
            <a:noFill/>
            <a:ln w="0">
              <a:solidFill>
                <a:srgbClr val="595959">
                  <a:alpha val="5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30"/>
            <p:cNvSpPr/>
            <p:nvPr/>
          </p:nvSpPr>
          <p:spPr>
            <a:xfrm rot="1638600">
              <a:off x="6605280" y="417240"/>
              <a:ext cx="681120" cy="95112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31"/>
            <p:cNvSpPr/>
            <p:nvPr/>
          </p:nvSpPr>
          <p:spPr>
            <a:xfrm rot="1638600">
              <a:off x="6876720" y="1199160"/>
              <a:ext cx="353880" cy="96588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32"/>
            <p:cNvSpPr/>
            <p:nvPr/>
          </p:nvSpPr>
          <p:spPr>
            <a:xfrm rot="1638600">
              <a:off x="7356600" y="1518480"/>
              <a:ext cx="922680" cy="59328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33"/>
            <p:cNvSpPr/>
            <p:nvPr/>
          </p:nvSpPr>
          <p:spPr>
            <a:xfrm rot="1638600">
              <a:off x="6314400" y="1446840"/>
              <a:ext cx="460440" cy="52848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4"/>
            <p:cNvSpPr/>
            <p:nvPr/>
          </p:nvSpPr>
          <p:spPr>
            <a:xfrm rot="1638600">
              <a:off x="7583760" y="1162080"/>
              <a:ext cx="989280" cy="98676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Group 26" descr=""/>
            <p:cNvPicPr/>
            <p:nvPr/>
          </p:nvPicPr>
          <p:blipFill>
            <a:blip r:embed="rId6"/>
            <a:stretch/>
          </p:blipFill>
          <p:spPr>
            <a:xfrm>
              <a:off x="8102160" y="1226160"/>
              <a:ext cx="219240" cy="2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Group 292" descr=""/>
            <p:cNvPicPr/>
            <p:nvPr/>
          </p:nvPicPr>
          <p:blipFill>
            <a:blip r:embed="rId7"/>
            <a:stretch/>
          </p:blipFill>
          <p:spPr>
            <a:xfrm>
              <a:off x="7504560" y="2144160"/>
              <a:ext cx="518400" cy="5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Freeform 83"/>
            <p:cNvSpPr/>
            <p:nvPr/>
          </p:nvSpPr>
          <p:spPr>
            <a:xfrm rot="1638600">
              <a:off x="8277840" y="1371960"/>
              <a:ext cx="209520" cy="201600"/>
            </a:xfrm>
            <a:prstGeom prst="pie">
              <a:avLst/>
            </a:prstGeom>
            <a:solidFill>
              <a:srgbClr val="575f6d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 rot="1638600">
              <a:off x="8163720" y="2294280"/>
              <a:ext cx="54000" cy="118440"/>
            </a:xfrm>
            <a:prstGeom prst="pie">
              <a:avLst/>
            </a:prstGeom>
            <a:solidFill>
              <a:srgbClr val="b32c16"/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 rot="1638600">
              <a:off x="8183880" y="2427480"/>
              <a:ext cx="360" cy="7920"/>
            </a:xfrm>
            <a:prstGeom prst="pie">
              <a:avLst/>
            </a:prstGeom>
            <a:solidFill>
              <a:srgbClr val="f5eb1e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69"/>
            <p:cNvGrpSpPr/>
            <p:nvPr/>
          </p:nvGrpSpPr>
          <p:grpSpPr>
            <a:xfrm>
              <a:off x="8502480" y="1387800"/>
              <a:ext cx="316440" cy="391320"/>
              <a:chOff x="8502480" y="1387800"/>
              <a:chExt cx="316440" cy="391320"/>
            </a:xfrm>
          </p:grpSpPr>
          <p:sp>
            <p:nvSpPr>
              <p:cNvPr id="135" name="Freeform 86"/>
              <p:cNvSpPr/>
              <p:nvPr/>
            </p:nvSpPr>
            <p:spPr>
              <a:xfrm rot="1638600">
                <a:off x="8551080" y="1643400"/>
                <a:ext cx="96840" cy="120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7"/>
              <p:cNvSpPr/>
              <p:nvPr/>
            </p:nvSpPr>
            <p:spPr>
              <a:xfrm rot="1638600">
                <a:off x="8555760" y="1550880"/>
                <a:ext cx="147600" cy="45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8"/>
              <p:cNvSpPr/>
              <p:nvPr/>
            </p:nvSpPr>
            <p:spPr>
              <a:xfrm rot="1638600">
                <a:off x="8707680" y="1445760"/>
                <a:ext cx="64800" cy="152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9"/>
              <p:cNvSpPr/>
              <p:nvPr/>
            </p:nvSpPr>
            <p:spPr>
              <a:xfrm rot="1638600">
                <a:off x="8718840" y="1540080"/>
                <a:ext cx="792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0"/>
              <p:cNvSpPr/>
              <p:nvPr/>
            </p:nvSpPr>
            <p:spPr>
              <a:xfrm rot="1638600">
                <a:off x="8683920" y="1454040"/>
                <a:ext cx="56880" cy="730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1"/>
              <p:cNvSpPr/>
              <p:nvPr/>
            </p:nvSpPr>
            <p:spPr>
              <a:xfrm rot="1638600">
                <a:off x="8572680" y="1739160"/>
                <a:ext cx="12600" cy="38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2"/>
              <p:cNvSpPr/>
              <p:nvPr/>
            </p:nvSpPr>
            <p:spPr>
              <a:xfrm rot="1638600">
                <a:off x="8655120" y="1456200"/>
                <a:ext cx="108000" cy="139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3"/>
              <p:cNvSpPr/>
              <p:nvPr/>
            </p:nvSpPr>
            <p:spPr>
              <a:xfrm rot="1638600">
                <a:off x="8538120" y="1586520"/>
                <a:ext cx="155520" cy="42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4"/>
              <p:cNvSpPr/>
              <p:nvPr/>
            </p:nvSpPr>
            <p:spPr>
              <a:xfrm rot="1638600">
                <a:off x="8534520" y="1592640"/>
                <a:ext cx="149040" cy="712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5"/>
              <p:cNvSpPr/>
              <p:nvPr/>
            </p:nvSpPr>
            <p:spPr>
              <a:xfrm rot="1638600">
                <a:off x="8613720" y="1477080"/>
                <a:ext cx="142920" cy="1170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6"/>
              <p:cNvSpPr/>
              <p:nvPr/>
            </p:nvSpPr>
            <p:spPr>
              <a:xfrm rot="1638600">
                <a:off x="8531280" y="1592640"/>
                <a:ext cx="152280" cy="846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97"/>
              <p:cNvSpPr/>
              <p:nvPr/>
            </p:nvSpPr>
            <p:spPr>
              <a:xfrm rot="1638600">
                <a:off x="8566920" y="1412280"/>
                <a:ext cx="187200" cy="326880"/>
              </a:xfrm>
              <a:prstGeom prst="pie">
                <a:avLst/>
              </a:prstGeom>
              <a:solidFill>
                <a:srgbClr val="575f6d">
                  <a:alpha val="2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82"/>
            <p:cNvGrpSpPr/>
            <p:nvPr/>
          </p:nvGrpSpPr>
          <p:grpSpPr>
            <a:xfrm>
              <a:off x="7858080" y="1638720"/>
              <a:ext cx="579240" cy="455760"/>
              <a:chOff x="7858080" y="1638720"/>
              <a:chExt cx="579240" cy="455760"/>
            </a:xfrm>
          </p:grpSpPr>
          <p:sp>
            <p:nvSpPr>
              <p:cNvPr id="148" name="Freeform 17"/>
              <p:cNvSpPr/>
              <p:nvPr/>
            </p:nvSpPr>
            <p:spPr>
              <a:xfrm rot="1638600">
                <a:off x="8243640" y="1974600"/>
                <a:ext cx="45720" cy="162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8"/>
              <p:cNvSpPr/>
              <p:nvPr/>
            </p:nvSpPr>
            <p:spPr>
              <a:xfrm rot="1638600">
                <a:off x="8226360" y="1978560"/>
                <a:ext cx="31680" cy="19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1"/>
              <p:cNvSpPr/>
              <p:nvPr/>
            </p:nvSpPr>
            <p:spPr>
              <a:xfrm rot="1638600">
                <a:off x="8207280" y="1981440"/>
                <a:ext cx="21960" cy="22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2"/>
              <p:cNvSpPr/>
              <p:nvPr/>
            </p:nvSpPr>
            <p:spPr>
              <a:xfrm rot="1638600">
                <a:off x="8258400" y="1955160"/>
                <a:ext cx="75960" cy="19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4"/>
              <p:cNvSpPr/>
              <p:nvPr/>
            </p:nvSpPr>
            <p:spPr>
              <a:xfrm rot="1638600">
                <a:off x="8186400" y="1982160"/>
                <a:ext cx="15840" cy="25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1"/>
              <p:cNvSpPr/>
              <p:nvPr/>
            </p:nvSpPr>
            <p:spPr>
              <a:xfrm rot="1638600">
                <a:off x="8138160" y="1974600"/>
                <a:ext cx="7920" cy="42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2"/>
              <p:cNvSpPr/>
              <p:nvPr/>
            </p:nvSpPr>
            <p:spPr>
              <a:xfrm rot="1638600">
                <a:off x="8166960" y="1986840"/>
                <a:ext cx="7920" cy="24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41"/>
              <p:cNvSpPr/>
              <p:nvPr/>
            </p:nvSpPr>
            <p:spPr>
              <a:xfrm rot="1638600">
                <a:off x="8077680" y="1850400"/>
                <a:ext cx="50760" cy="64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2"/>
              <p:cNvSpPr/>
              <p:nvPr/>
            </p:nvSpPr>
            <p:spPr>
              <a:xfrm rot="1638600">
                <a:off x="8058240" y="1840680"/>
                <a:ext cx="140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43"/>
              <p:cNvSpPr/>
              <p:nvPr/>
            </p:nvSpPr>
            <p:spPr>
              <a:xfrm rot="1638600">
                <a:off x="8073360" y="1758960"/>
                <a:ext cx="102960" cy="583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44"/>
              <p:cNvSpPr/>
              <p:nvPr/>
            </p:nvSpPr>
            <p:spPr>
              <a:xfrm rot="1638600">
                <a:off x="8189640" y="1802160"/>
                <a:ext cx="12600" cy="24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45"/>
              <p:cNvSpPr/>
              <p:nvPr/>
            </p:nvSpPr>
            <p:spPr>
              <a:xfrm rot="1638600">
                <a:off x="8113320" y="1922760"/>
                <a:ext cx="792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46"/>
              <p:cNvSpPr/>
              <p:nvPr/>
            </p:nvSpPr>
            <p:spPr>
              <a:xfrm rot="1638600">
                <a:off x="8018280" y="1881000"/>
                <a:ext cx="91800" cy="370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47"/>
              <p:cNvSpPr/>
              <p:nvPr/>
            </p:nvSpPr>
            <p:spPr>
              <a:xfrm rot="1638600">
                <a:off x="8146800" y="1791000"/>
                <a:ext cx="37800" cy="338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48"/>
              <p:cNvSpPr/>
              <p:nvPr/>
            </p:nvSpPr>
            <p:spPr>
              <a:xfrm rot="1638600">
                <a:off x="7877520" y="1735920"/>
                <a:ext cx="262080" cy="1479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9"/>
              <p:cNvSpPr/>
              <p:nvPr/>
            </p:nvSpPr>
            <p:spPr>
              <a:xfrm rot="1638600">
                <a:off x="7894800" y="1799280"/>
                <a:ext cx="227160" cy="30600"/>
              </a:xfrm>
              <a:prstGeom prst="pie">
                <a:avLst/>
              </a:prstGeom>
              <a:solidFill>
                <a:srgbClr val="61b5cc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8"/>
              <p:cNvSpPr/>
              <p:nvPr/>
            </p:nvSpPr>
            <p:spPr>
              <a:xfrm rot="1638600">
                <a:off x="8019360" y="1890720"/>
                <a:ext cx="110880" cy="1267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9"/>
              <p:cNvSpPr/>
              <p:nvPr/>
            </p:nvSpPr>
            <p:spPr>
              <a:xfrm rot="1638600">
                <a:off x="8222040" y="1948680"/>
                <a:ext cx="91800" cy="306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0"/>
              <p:cNvSpPr/>
              <p:nvPr/>
            </p:nvSpPr>
            <p:spPr>
              <a:xfrm rot="1638600">
                <a:off x="8258400" y="1789200"/>
                <a:ext cx="110880" cy="1299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1"/>
              <p:cNvSpPr/>
              <p:nvPr/>
            </p:nvSpPr>
            <p:spPr>
              <a:xfrm rot="1638600">
                <a:off x="8175240" y="1956240"/>
                <a:ext cx="23760" cy="583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2"/>
              <p:cNvSpPr/>
              <p:nvPr/>
            </p:nvSpPr>
            <p:spPr>
              <a:xfrm rot="1638600">
                <a:off x="8175600" y="1698120"/>
                <a:ext cx="63360" cy="149400"/>
              </a:xfrm>
              <a:prstGeom prst="pie">
                <a:avLst/>
              </a:pr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3"/>
              <p:cNvSpPr/>
              <p:nvPr/>
            </p:nvSpPr>
            <p:spPr>
              <a:xfrm rot="1638600">
                <a:off x="8025480" y="1804680"/>
                <a:ext cx="147600" cy="43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4"/>
              <p:cNvSpPr/>
              <p:nvPr/>
            </p:nvSpPr>
            <p:spPr>
              <a:xfrm rot="1638600">
                <a:off x="8268480" y="1942200"/>
                <a:ext cx="9180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5"/>
              <p:cNvSpPr/>
              <p:nvPr/>
            </p:nvSpPr>
            <p:spPr>
              <a:xfrm rot="1638600">
                <a:off x="8161560" y="1718640"/>
                <a:ext cx="6120" cy="111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6"/>
              <p:cNvSpPr/>
              <p:nvPr/>
            </p:nvSpPr>
            <p:spPr>
              <a:xfrm rot="1638600">
                <a:off x="8166240" y="1710360"/>
                <a:ext cx="36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7"/>
              <p:cNvSpPr/>
              <p:nvPr/>
            </p:nvSpPr>
            <p:spPr>
              <a:xfrm rot="1638600">
                <a:off x="8164800" y="1746000"/>
                <a:ext cx="468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8"/>
              <p:cNvSpPr/>
              <p:nvPr/>
            </p:nvSpPr>
            <p:spPr>
              <a:xfrm rot="1638600">
                <a:off x="8037360" y="2015640"/>
                <a:ext cx="18720" cy="19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9"/>
              <p:cNvSpPr/>
              <p:nvPr/>
            </p:nvSpPr>
            <p:spPr>
              <a:xfrm rot="1638600">
                <a:off x="8309520" y="1794600"/>
                <a:ext cx="7920" cy="97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0"/>
              <p:cNvSpPr/>
              <p:nvPr/>
            </p:nvSpPr>
            <p:spPr>
              <a:xfrm rot="1638600">
                <a:off x="8330400" y="1781280"/>
                <a:ext cx="6120" cy="7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1"/>
              <p:cNvSpPr/>
              <p:nvPr/>
            </p:nvSpPr>
            <p:spPr>
              <a:xfrm rot="1638600">
                <a:off x="8264520" y="1791720"/>
                <a:ext cx="29880" cy="648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2"/>
              <p:cNvSpPr/>
              <p:nvPr/>
            </p:nvSpPr>
            <p:spPr>
              <a:xfrm rot="1638600">
                <a:off x="8159040" y="1786320"/>
                <a:ext cx="27000" cy="42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3"/>
              <p:cNvSpPr/>
              <p:nvPr/>
            </p:nvSpPr>
            <p:spPr>
              <a:xfrm rot="1638600">
                <a:off x="8007480" y="1837440"/>
                <a:ext cx="152280" cy="291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4"/>
              <p:cNvSpPr/>
              <p:nvPr/>
            </p:nvSpPr>
            <p:spPr>
              <a:xfrm rot="1638600">
                <a:off x="8132760" y="1917720"/>
                <a:ext cx="14040" cy="35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5"/>
              <p:cNvSpPr/>
              <p:nvPr/>
            </p:nvSpPr>
            <p:spPr>
              <a:xfrm rot="1638600">
                <a:off x="8178480" y="1952640"/>
                <a:ext cx="47520" cy="550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6"/>
              <p:cNvSpPr/>
              <p:nvPr/>
            </p:nvSpPr>
            <p:spPr>
              <a:xfrm rot="1638600">
                <a:off x="8256960" y="1758600"/>
                <a:ext cx="77760" cy="152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17"/>
              <p:cNvSpPr/>
              <p:nvPr/>
            </p:nvSpPr>
            <p:spPr>
              <a:xfrm rot="1638600">
                <a:off x="8057160" y="1900080"/>
                <a:ext cx="75960" cy="152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18"/>
              <p:cNvSpPr/>
              <p:nvPr/>
            </p:nvSpPr>
            <p:spPr>
              <a:xfrm rot="1638600">
                <a:off x="8223480" y="1930680"/>
                <a:ext cx="133200" cy="338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9"/>
              <p:cNvSpPr/>
              <p:nvPr/>
            </p:nvSpPr>
            <p:spPr>
              <a:xfrm rot="1638600">
                <a:off x="8136000" y="1714680"/>
                <a:ext cx="96840" cy="1332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0"/>
              <p:cNvSpPr/>
              <p:nvPr/>
            </p:nvSpPr>
            <p:spPr>
              <a:xfrm rot="1638600">
                <a:off x="8002800" y="1838880"/>
                <a:ext cx="160200" cy="42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1"/>
              <p:cNvSpPr/>
              <p:nvPr/>
            </p:nvSpPr>
            <p:spPr>
              <a:xfrm rot="1638600">
                <a:off x="8237160" y="1825920"/>
                <a:ext cx="144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2"/>
              <p:cNvSpPr/>
              <p:nvPr/>
            </p:nvSpPr>
            <p:spPr>
              <a:xfrm rot="1638600">
                <a:off x="8262000" y="1731600"/>
                <a:ext cx="29880" cy="107280"/>
              </a:xfrm>
              <a:prstGeom prst="pie">
                <a:avLst/>
              </a:pr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3"/>
              <p:cNvSpPr/>
              <p:nvPr/>
            </p:nvSpPr>
            <p:spPr>
              <a:xfrm rot="1638600">
                <a:off x="8149680" y="1826640"/>
                <a:ext cx="1080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4"/>
              <p:cNvSpPr/>
              <p:nvPr/>
            </p:nvSpPr>
            <p:spPr>
              <a:xfrm rot="1638600">
                <a:off x="8008920" y="1847160"/>
                <a:ext cx="144360" cy="666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5"/>
              <p:cNvSpPr/>
              <p:nvPr/>
            </p:nvSpPr>
            <p:spPr>
              <a:xfrm rot="1638600">
                <a:off x="8098560" y="1909440"/>
                <a:ext cx="31680" cy="1641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26"/>
              <p:cNvSpPr/>
              <p:nvPr/>
            </p:nvSpPr>
            <p:spPr>
              <a:xfrm rot="1638600">
                <a:off x="8096760" y="1912680"/>
                <a:ext cx="42840" cy="1674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27"/>
              <p:cNvSpPr/>
              <p:nvPr/>
            </p:nvSpPr>
            <p:spPr>
              <a:xfrm rot="1638600">
                <a:off x="8248680" y="1731240"/>
                <a:ext cx="42840" cy="165960"/>
              </a:xfrm>
              <a:prstGeom prst="pie">
                <a:avLst/>
              </a:pr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8"/>
              <p:cNvSpPr/>
              <p:nvPr/>
            </p:nvSpPr>
            <p:spPr>
              <a:xfrm rot="1638600">
                <a:off x="8183520" y="1950840"/>
                <a:ext cx="68040" cy="504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29"/>
              <p:cNvSpPr/>
              <p:nvPr/>
            </p:nvSpPr>
            <p:spPr>
              <a:xfrm rot="1638600">
                <a:off x="8005680" y="1845720"/>
                <a:ext cx="147600" cy="777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0"/>
              <p:cNvSpPr/>
              <p:nvPr/>
            </p:nvSpPr>
            <p:spPr>
              <a:xfrm rot="1638600">
                <a:off x="8087760" y="1734480"/>
                <a:ext cx="135000" cy="1137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1"/>
              <p:cNvSpPr/>
              <p:nvPr/>
            </p:nvSpPr>
            <p:spPr>
              <a:xfrm rot="1638600">
                <a:off x="8235360" y="1878480"/>
                <a:ext cx="155520" cy="860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2"/>
              <p:cNvSpPr/>
              <p:nvPr/>
            </p:nvSpPr>
            <p:spPr>
              <a:xfrm rot="1638600">
                <a:off x="8116920" y="2032560"/>
                <a:ext cx="20520" cy="60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3"/>
              <p:cNvSpPr/>
              <p:nvPr/>
            </p:nvSpPr>
            <p:spPr>
              <a:xfrm rot="1638600">
                <a:off x="8028720" y="1701000"/>
                <a:ext cx="352440" cy="330120"/>
              </a:xfrm>
              <a:prstGeom prst="pie">
                <a:avLst/>
              </a:prstGeom>
              <a:solidFill>
                <a:srgbClr val="575f6d">
                  <a:alpha val="2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143"/>
            <p:cNvSpPr/>
            <p:nvPr/>
          </p:nvSpPr>
          <p:spPr>
            <a:xfrm rot="1638600">
              <a:off x="6813360" y="1659960"/>
              <a:ext cx="145800" cy="18360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4"/>
            <p:cNvSpPr/>
            <p:nvPr/>
          </p:nvSpPr>
          <p:spPr>
            <a:xfrm rot="1638600">
              <a:off x="6845400" y="1671120"/>
              <a:ext cx="72720" cy="123480"/>
            </a:xfrm>
            <a:prstGeom prst="pie">
              <a:avLst/>
            </a:prstGeom>
            <a:solidFill>
              <a:srgbClr val="61b5cc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Group 296" descr=""/>
            <p:cNvPicPr/>
            <p:nvPr/>
          </p:nvPicPr>
          <p:blipFill>
            <a:blip r:embed="rId8"/>
            <a:stretch/>
          </p:blipFill>
          <p:spPr>
            <a:xfrm>
              <a:off x="7132320" y="1089000"/>
              <a:ext cx="512280" cy="53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Group 294"/>
            <p:cNvGrpSpPr/>
            <p:nvPr/>
          </p:nvGrpSpPr>
          <p:grpSpPr>
            <a:xfrm>
              <a:off x="6228000" y="1184400"/>
              <a:ext cx="569520" cy="557280"/>
              <a:chOff x="6228000" y="1184400"/>
              <a:chExt cx="569520" cy="557280"/>
            </a:xfrm>
          </p:grpSpPr>
          <p:sp>
            <p:nvSpPr>
              <p:cNvPr id="204" name="Freeform 11"/>
              <p:cNvSpPr/>
              <p:nvPr/>
            </p:nvSpPr>
            <p:spPr>
              <a:xfrm rot="1638600">
                <a:off x="6484680" y="1277280"/>
                <a:ext cx="4680" cy="144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"/>
              <p:cNvSpPr/>
              <p:nvPr/>
            </p:nvSpPr>
            <p:spPr>
              <a:xfrm rot="1638600">
                <a:off x="6519600" y="1252440"/>
                <a:ext cx="15840" cy="356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 rot="1638600">
                <a:off x="6380280" y="1330200"/>
                <a:ext cx="10800" cy="32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"/>
              <p:cNvSpPr/>
              <p:nvPr/>
            </p:nvSpPr>
            <p:spPr>
              <a:xfrm rot="1638600">
                <a:off x="6454080" y="1290240"/>
                <a:ext cx="7920" cy="144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44"/>
              <p:cNvSpPr/>
              <p:nvPr/>
            </p:nvSpPr>
            <p:spPr>
              <a:xfrm rot="1638600">
                <a:off x="6558120" y="1234080"/>
                <a:ext cx="10800" cy="9252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 rot="1638600">
                <a:off x="6298200" y="1431360"/>
                <a:ext cx="23760" cy="176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"/>
              <p:cNvSpPr/>
              <p:nvPr/>
            </p:nvSpPr>
            <p:spPr>
              <a:xfrm rot="1638600">
                <a:off x="6283080" y="1458720"/>
                <a:ext cx="29880" cy="2916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1638600">
                <a:off x="6289560" y="1453680"/>
                <a:ext cx="54000" cy="666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8"/>
              <p:cNvSpPr/>
              <p:nvPr/>
            </p:nvSpPr>
            <p:spPr>
              <a:xfrm rot="1638600">
                <a:off x="6317640" y="1403640"/>
                <a:ext cx="29880" cy="1296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9"/>
              <p:cNvSpPr/>
              <p:nvPr/>
            </p:nvSpPr>
            <p:spPr>
              <a:xfrm rot="1638600">
                <a:off x="6310800" y="1414800"/>
                <a:ext cx="6120" cy="64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78"/>
              <p:cNvSpPr/>
              <p:nvPr/>
            </p:nvSpPr>
            <p:spPr>
              <a:xfrm rot="1638600">
                <a:off x="6269760" y="1450080"/>
                <a:ext cx="91800" cy="2048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9"/>
              <p:cNvSpPr/>
              <p:nvPr/>
            </p:nvSpPr>
            <p:spPr>
              <a:xfrm rot="1638600">
                <a:off x="6289560" y="1422720"/>
                <a:ext cx="93600" cy="1202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80"/>
              <p:cNvSpPr/>
              <p:nvPr/>
            </p:nvSpPr>
            <p:spPr>
              <a:xfrm rot="1638600">
                <a:off x="6412320" y="1310040"/>
                <a:ext cx="31680" cy="338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81"/>
              <p:cNvSpPr/>
              <p:nvPr/>
            </p:nvSpPr>
            <p:spPr>
              <a:xfrm rot="1638600">
                <a:off x="6486480" y="1274040"/>
                <a:ext cx="4680" cy="176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82"/>
              <p:cNvSpPr/>
              <p:nvPr/>
            </p:nvSpPr>
            <p:spPr>
              <a:xfrm rot="1638600">
                <a:off x="6617160" y="1208880"/>
                <a:ext cx="55440" cy="1314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83"/>
              <p:cNvSpPr/>
              <p:nvPr/>
            </p:nvSpPr>
            <p:spPr>
              <a:xfrm rot="1638600">
                <a:off x="6516720" y="1232640"/>
                <a:ext cx="29880" cy="1494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84"/>
              <p:cNvSpPr/>
              <p:nvPr/>
            </p:nvSpPr>
            <p:spPr>
              <a:xfrm rot="1638600">
                <a:off x="6336720" y="1464120"/>
                <a:ext cx="56880" cy="2520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85"/>
              <p:cNvSpPr/>
              <p:nvPr/>
            </p:nvSpPr>
            <p:spPr>
              <a:xfrm rot="1638600">
                <a:off x="6566040" y="1191600"/>
                <a:ext cx="82440" cy="2080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86"/>
              <p:cNvSpPr/>
              <p:nvPr/>
            </p:nvSpPr>
            <p:spPr>
              <a:xfrm rot="1638600">
                <a:off x="6561360" y="1227600"/>
                <a:ext cx="27000" cy="99000"/>
              </a:xfrm>
              <a:prstGeom prst="pie">
                <a:avLst/>
              </a:prstGeom>
              <a:solidFill>
                <a:srgbClr val="f5cd2d">
                  <a:alpha val="30000"/>
                </a:srgbClr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87"/>
              <p:cNvSpPr/>
              <p:nvPr/>
            </p:nvSpPr>
            <p:spPr>
              <a:xfrm rot="1638600">
                <a:off x="6469920" y="1276920"/>
                <a:ext cx="21960" cy="666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88"/>
              <p:cNvSpPr/>
              <p:nvPr/>
            </p:nvSpPr>
            <p:spPr>
              <a:xfrm rot="1638600">
                <a:off x="6286680" y="1460520"/>
                <a:ext cx="1440" cy="32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9"/>
              <p:cNvSpPr/>
              <p:nvPr/>
            </p:nvSpPr>
            <p:spPr>
              <a:xfrm rot="1638600">
                <a:off x="6302880" y="1414800"/>
                <a:ext cx="71280" cy="4716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90"/>
              <p:cNvSpPr/>
              <p:nvPr/>
            </p:nvSpPr>
            <p:spPr>
              <a:xfrm rot="1638600">
                <a:off x="6351480" y="1369080"/>
                <a:ext cx="44280" cy="46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91"/>
              <p:cNvSpPr/>
              <p:nvPr/>
            </p:nvSpPr>
            <p:spPr>
              <a:xfrm rot="1638600">
                <a:off x="6372360" y="1336320"/>
                <a:ext cx="61920" cy="324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92"/>
              <p:cNvSpPr/>
              <p:nvPr/>
            </p:nvSpPr>
            <p:spPr>
              <a:xfrm rot="1638600">
                <a:off x="6315840" y="1398240"/>
                <a:ext cx="82440" cy="388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93"/>
              <p:cNvSpPr/>
              <p:nvPr/>
            </p:nvSpPr>
            <p:spPr>
              <a:xfrm rot="1638600">
                <a:off x="6434640" y="1290240"/>
                <a:ext cx="44280" cy="680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94"/>
              <p:cNvSpPr/>
              <p:nvPr/>
            </p:nvSpPr>
            <p:spPr>
              <a:xfrm rot="1638600">
                <a:off x="6409800" y="1506600"/>
                <a:ext cx="135000" cy="2160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95"/>
              <p:cNvSpPr/>
              <p:nvPr/>
            </p:nvSpPr>
            <p:spPr>
              <a:xfrm rot="1638600">
                <a:off x="6448680" y="1532160"/>
                <a:ext cx="165240" cy="14616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96"/>
              <p:cNvSpPr/>
              <p:nvPr/>
            </p:nvSpPr>
            <p:spPr>
              <a:xfrm rot="1638600">
                <a:off x="6482880" y="1577520"/>
                <a:ext cx="120600" cy="11052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97"/>
              <p:cNvSpPr/>
              <p:nvPr/>
            </p:nvSpPr>
            <p:spPr>
              <a:xfrm rot="1638600">
                <a:off x="6412320" y="1583280"/>
                <a:ext cx="48960" cy="1382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98"/>
              <p:cNvSpPr/>
              <p:nvPr/>
            </p:nvSpPr>
            <p:spPr>
              <a:xfrm rot="1638600">
                <a:off x="6465240" y="1520640"/>
                <a:ext cx="241200" cy="1054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9"/>
              <p:cNvSpPr/>
              <p:nvPr/>
            </p:nvSpPr>
            <p:spPr>
              <a:xfrm rot="1638600">
                <a:off x="6401880" y="1512000"/>
                <a:ext cx="73080" cy="2048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00"/>
              <p:cNvSpPr/>
              <p:nvPr/>
            </p:nvSpPr>
            <p:spPr>
              <a:xfrm rot="1638600">
                <a:off x="6558120" y="1236600"/>
                <a:ext cx="163440" cy="21132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entury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01"/>
              <p:cNvSpPr/>
              <p:nvPr/>
            </p:nvSpPr>
            <p:spPr>
              <a:xfrm rot="1638600">
                <a:off x="6628680" y="1367280"/>
                <a:ext cx="131760" cy="1008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02"/>
              <p:cNvSpPr/>
              <p:nvPr/>
            </p:nvSpPr>
            <p:spPr>
              <a:xfrm rot="1638600">
                <a:off x="6559200" y="1344960"/>
                <a:ext cx="195120" cy="1184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03"/>
              <p:cNvSpPr/>
              <p:nvPr/>
            </p:nvSpPr>
            <p:spPr>
              <a:xfrm rot="1638600">
                <a:off x="6573600" y="1539360"/>
                <a:ext cx="150840" cy="306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04"/>
              <p:cNvSpPr/>
              <p:nvPr/>
            </p:nvSpPr>
            <p:spPr>
              <a:xfrm rot="1638600">
                <a:off x="6530040" y="1403640"/>
                <a:ext cx="260280" cy="9432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77"/>
              <p:cNvSpPr/>
              <p:nvPr/>
            </p:nvSpPr>
            <p:spPr>
              <a:xfrm rot="1638600">
                <a:off x="6519960" y="1499040"/>
                <a:ext cx="219240" cy="388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78"/>
              <p:cNvSpPr/>
              <p:nvPr/>
            </p:nvSpPr>
            <p:spPr>
              <a:xfrm rot="1638600">
                <a:off x="6296400" y="1434240"/>
                <a:ext cx="21960" cy="226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79"/>
              <p:cNvSpPr/>
              <p:nvPr/>
            </p:nvSpPr>
            <p:spPr>
              <a:xfrm rot="1638600">
                <a:off x="6319440" y="1255320"/>
                <a:ext cx="324000" cy="361080"/>
              </a:xfrm>
              <a:prstGeom prst="pie">
                <a:avLst/>
              </a:prstGeom>
              <a:solidFill>
                <a:srgbClr val="f5cd2d">
                  <a:alpha val="20000"/>
                </a:srgbClr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Freeform 346"/>
            <p:cNvSpPr/>
            <p:nvPr/>
          </p:nvSpPr>
          <p:spPr>
            <a:xfrm rot="1638600">
              <a:off x="6976800" y="407520"/>
              <a:ext cx="201600" cy="180360"/>
            </a:xfrm>
            <a:prstGeom prst="pie">
              <a:avLst/>
            </a:prstGeom>
            <a:solidFill>
              <a:srgbClr val="575f6d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47"/>
            <p:cNvSpPr/>
            <p:nvPr/>
          </p:nvSpPr>
          <p:spPr>
            <a:xfrm rot="1638600">
              <a:off x="6328800" y="1845000"/>
              <a:ext cx="9360" cy="7920"/>
            </a:xfrm>
            <a:prstGeom prst="pie">
              <a:avLst/>
            </a:prstGeom>
            <a:solidFill>
              <a:srgbClr val="f5eb1e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48"/>
            <p:cNvSpPr/>
            <p:nvPr/>
          </p:nvSpPr>
          <p:spPr>
            <a:xfrm rot="1638600">
              <a:off x="6336720" y="1864440"/>
              <a:ext cx="88920" cy="56880"/>
            </a:xfrm>
            <a:prstGeom prst="pie">
              <a:avLst/>
            </a:prstGeom>
            <a:solidFill>
              <a:srgbClr val="b32c16"/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9"/>
            <p:cNvSpPr/>
            <p:nvPr/>
          </p:nvSpPr>
          <p:spPr>
            <a:xfrm rot="1638600">
              <a:off x="6860880" y="1290240"/>
              <a:ext cx="210960" cy="204840"/>
            </a:xfrm>
            <a:prstGeom prst="pie">
              <a:avLst/>
            </a:prstGeom>
            <a:solidFill>
              <a:srgbClr val="575f6d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50"/>
            <p:cNvSpPr/>
            <p:nvPr/>
          </p:nvSpPr>
          <p:spPr>
            <a:xfrm rot="1638600">
              <a:off x="7199280" y="1842120"/>
              <a:ext cx="72720" cy="2016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293"/>
            <p:cNvGrpSpPr/>
            <p:nvPr/>
          </p:nvGrpSpPr>
          <p:grpSpPr>
            <a:xfrm>
              <a:off x="7140240" y="1825200"/>
              <a:ext cx="234000" cy="179280"/>
              <a:chOff x="7140240" y="1825200"/>
              <a:chExt cx="234000" cy="179280"/>
            </a:xfrm>
          </p:grpSpPr>
          <p:sp>
            <p:nvSpPr>
              <p:cNvPr id="250" name="Freeform 438"/>
              <p:cNvSpPr/>
              <p:nvPr/>
            </p:nvSpPr>
            <p:spPr>
              <a:xfrm rot="1638600">
                <a:off x="7281360" y="1883520"/>
                <a:ext cx="71280" cy="110520"/>
              </a:xfrm>
              <a:prstGeom prst="pie">
                <a:avLst/>
              </a:prstGeom>
              <a:solidFill>
                <a:srgbClr val="b32c1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39"/>
              <p:cNvSpPr/>
              <p:nvPr/>
            </p:nvSpPr>
            <p:spPr>
              <a:xfrm rot="1638600">
                <a:off x="7156080" y="1833120"/>
                <a:ext cx="55440" cy="82800"/>
              </a:xfrm>
              <a:prstGeom prst="pie">
                <a:avLst/>
              </a:prstGeom>
              <a:solidFill>
                <a:srgbClr val="b32c1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90"/>
            <p:cNvGrpSpPr/>
            <p:nvPr/>
          </p:nvGrpSpPr>
          <p:grpSpPr>
            <a:xfrm>
              <a:off x="6528960" y="1785240"/>
              <a:ext cx="426600" cy="388800"/>
              <a:chOff x="6528960" y="1785240"/>
              <a:chExt cx="426600" cy="388800"/>
            </a:xfrm>
          </p:grpSpPr>
          <p:sp>
            <p:nvSpPr>
              <p:cNvPr id="253" name="Freeform 410"/>
              <p:cNvSpPr/>
              <p:nvPr/>
            </p:nvSpPr>
            <p:spPr>
              <a:xfrm rot="1638600">
                <a:off x="6565320" y="2032920"/>
                <a:ext cx="81000" cy="306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9"/>
              <p:cNvSpPr/>
              <p:nvPr/>
            </p:nvSpPr>
            <p:spPr>
              <a:xfrm rot="1638600">
                <a:off x="6812640" y="2050560"/>
                <a:ext cx="1080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12"/>
              <p:cNvSpPr/>
              <p:nvPr/>
            </p:nvSpPr>
            <p:spPr>
              <a:xfrm rot="1638600">
                <a:off x="6560280" y="1951920"/>
                <a:ext cx="147600" cy="43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13"/>
              <p:cNvSpPr/>
              <p:nvPr/>
            </p:nvSpPr>
            <p:spPr>
              <a:xfrm rot="1638600">
                <a:off x="6797520" y="1939680"/>
                <a:ext cx="108000" cy="1285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14"/>
              <p:cNvSpPr/>
              <p:nvPr/>
            </p:nvSpPr>
            <p:spPr>
              <a:xfrm rot="1638600">
                <a:off x="6711840" y="1845360"/>
                <a:ext cx="61920" cy="1512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15"/>
              <p:cNvSpPr/>
              <p:nvPr/>
            </p:nvSpPr>
            <p:spPr>
              <a:xfrm rot="1638600">
                <a:off x="6668640" y="2064960"/>
                <a:ext cx="18720" cy="111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16"/>
              <p:cNvSpPr/>
              <p:nvPr/>
            </p:nvSpPr>
            <p:spPr>
              <a:xfrm rot="1638600">
                <a:off x="6815160" y="1910520"/>
                <a:ext cx="54000" cy="943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17"/>
              <p:cNvSpPr/>
              <p:nvPr/>
            </p:nvSpPr>
            <p:spPr>
              <a:xfrm rot="1638600">
                <a:off x="6675480" y="1873440"/>
                <a:ext cx="63360" cy="975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18"/>
              <p:cNvSpPr/>
              <p:nvPr/>
            </p:nvSpPr>
            <p:spPr>
              <a:xfrm rot="1638600">
                <a:off x="6789240" y="1986120"/>
                <a:ext cx="468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19"/>
              <p:cNvSpPr/>
              <p:nvPr/>
            </p:nvSpPr>
            <p:spPr>
              <a:xfrm rot="1638600">
                <a:off x="6671880" y="1856880"/>
                <a:ext cx="96840" cy="142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20"/>
              <p:cNvSpPr/>
              <p:nvPr/>
            </p:nvSpPr>
            <p:spPr>
              <a:xfrm rot="1638600">
                <a:off x="6545160" y="1987560"/>
                <a:ext cx="155520" cy="35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21"/>
              <p:cNvSpPr/>
              <p:nvPr/>
            </p:nvSpPr>
            <p:spPr>
              <a:xfrm rot="1638600">
                <a:off x="6794280" y="1905480"/>
                <a:ext cx="75960" cy="1530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22"/>
              <p:cNvSpPr/>
              <p:nvPr/>
            </p:nvSpPr>
            <p:spPr>
              <a:xfrm rot="1638600">
                <a:off x="6685200" y="2069640"/>
                <a:ext cx="1260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23"/>
              <p:cNvSpPr/>
              <p:nvPr/>
            </p:nvSpPr>
            <p:spPr>
              <a:xfrm rot="1638600">
                <a:off x="6628680" y="1884960"/>
                <a:ext cx="88920" cy="846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24"/>
              <p:cNvSpPr/>
              <p:nvPr/>
            </p:nvSpPr>
            <p:spPr>
              <a:xfrm rot="1638600">
                <a:off x="6811200" y="2052000"/>
                <a:ext cx="612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25"/>
              <p:cNvSpPr/>
              <p:nvPr/>
            </p:nvSpPr>
            <p:spPr>
              <a:xfrm rot="1638600">
                <a:off x="6537240" y="1990800"/>
                <a:ext cx="150840" cy="730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26"/>
              <p:cNvSpPr/>
              <p:nvPr/>
            </p:nvSpPr>
            <p:spPr>
              <a:xfrm rot="1638600">
                <a:off x="6773760" y="1980000"/>
                <a:ext cx="36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27"/>
              <p:cNvSpPr/>
              <p:nvPr/>
            </p:nvSpPr>
            <p:spPr>
              <a:xfrm rot="1638600">
                <a:off x="6641640" y="2050560"/>
                <a:ext cx="792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28"/>
              <p:cNvSpPr/>
              <p:nvPr/>
            </p:nvSpPr>
            <p:spPr>
              <a:xfrm rot="1638600">
                <a:off x="6563880" y="2038680"/>
                <a:ext cx="23760" cy="111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29"/>
              <p:cNvSpPr/>
              <p:nvPr/>
            </p:nvSpPr>
            <p:spPr>
              <a:xfrm rot="1638600">
                <a:off x="6656400" y="1862640"/>
                <a:ext cx="288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30"/>
              <p:cNvSpPr/>
              <p:nvPr/>
            </p:nvSpPr>
            <p:spPr>
              <a:xfrm rot="1638600">
                <a:off x="6797880" y="1875240"/>
                <a:ext cx="34920" cy="1188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31"/>
              <p:cNvSpPr/>
              <p:nvPr/>
            </p:nvSpPr>
            <p:spPr>
              <a:xfrm rot="1638600">
                <a:off x="6697440" y="2072880"/>
                <a:ext cx="36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32"/>
              <p:cNvSpPr/>
              <p:nvPr/>
            </p:nvSpPr>
            <p:spPr>
              <a:xfrm rot="1638600">
                <a:off x="6536880" y="1992240"/>
                <a:ext cx="154080" cy="730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33"/>
              <p:cNvSpPr/>
              <p:nvPr/>
            </p:nvSpPr>
            <p:spPr>
              <a:xfrm rot="1638600">
                <a:off x="6625440" y="1883160"/>
                <a:ext cx="133200" cy="1137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34"/>
              <p:cNvSpPr/>
              <p:nvPr/>
            </p:nvSpPr>
            <p:spPr>
              <a:xfrm rot="1638600">
                <a:off x="6786720" y="1873800"/>
                <a:ext cx="39600" cy="170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35"/>
              <p:cNvSpPr/>
              <p:nvPr/>
            </p:nvSpPr>
            <p:spPr>
              <a:xfrm rot="1638600">
                <a:off x="6769440" y="2040840"/>
                <a:ext cx="41040" cy="40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36"/>
              <p:cNvSpPr/>
              <p:nvPr/>
            </p:nvSpPr>
            <p:spPr>
              <a:xfrm rot="1638600">
                <a:off x="6697440" y="2074320"/>
                <a:ext cx="468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37"/>
              <p:cNvSpPr/>
              <p:nvPr/>
            </p:nvSpPr>
            <p:spPr>
              <a:xfrm rot="1638600">
                <a:off x="6579720" y="1846800"/>
                <a:ext cx="333360" cy="2653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89"/>
            <p:cNvGrpSpPr/>
            <p:nvPr/>
          </p:nvGrpSpPr>
          <p:grpSpPr>
            <a:xfrm>
              <a:off x="7230600" y="693360"/>
              <a:ext cx="79920" cy="136080"/>
              <a:chOff x="7230600" y="693360"/>
              <a:chExt cx="79920" cy="136080"/>
            </a:xfrm>
          </p:grpSpPr>
          <p:sp>
            <p:nvSpPr>
              <p:cNvPr id="282" name="Freeform 406"/>
              <p:cNvSpPr/>
              <p:nvPr/>
            </p:nvSpPr>
            <p:spPr>
              <a:xfrm rot="1638600">
                <a:off x="7245360" y="734040"/>
                <a:ext cx="21960" cy="19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07"/>
              <p:cNvSpPr/>
              <p:nvPr/>
            </p:nvSpPr>
            <p:spPr>
              <a:xfrm rot="1638600">
                <a:off x="7272360" y="776160"/>
                <a:ext cx="15840" cy="20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08"/>
              <p:cNvSpPr/>
              <p:nvPr/>
            </p:nvSpPr>
            <p:spPr>
              <a:xfrm rot="1638600">
                <a:off x="7303680" y="824760"/>
                <a:ext cx="612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09"/>
              <p:cNvSpPr/>
              <p:nvPr/>
            </p:nvSpPr>
            <p:spPr>
              <a:xfrm rot="1638600">
                <a:off x="7231320" y="695880"/>
                <a:ext cx="1404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6" name="Group 288" descr=""/>
            <p:cNvPicPr/>
            <p:nvPr/>
          </p:nvPicPr>
          <p:blipFill>
            <a:blip r:embed="rId9"/>
            <a:stretch/>
          </p:blipFill>
          <p:spPr>
            <a:xfrm>
              <a:off x="6601680" y="707760"/>
              <a:ext cx="500040" cy="4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Group 281" descr=""/>
            <p:cNvPicPr/>
            <p:nvPr/>
          </p:nvPicPr>
          <p:blipFill>
            <a:blip r:embed="rId10"/>
            <a:stretch/>
          </p:blipFill>
          <p:spPr>
            <a:xfrm>
              <a:off x="7413120" y="1681920"/>
              <a:ext cx="286560" cy="3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Freeform 283"/>
            <p:cNvSpPr/>
            <p:nvPr/>
          </p:nvSpPr>
          <p:spPr>
            <a:xfrm rot="1638600">
              <a:off x="7419960" y="875520"/>
              <a:ext cx="180720" cy="5007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4"/>
            <p:cNvSpPr/>
            <p:nvPr/>
          </p:nvSpPr>
          <p:spPr>
            <a:xfrm rot="1638600">
              <a:off x="7642440" y="974880"/>
              <a:ext cx="172800" cy="505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724"/>
          <p:cNvGrpSpPr/>
          <p:nvPr/>
        </p:nvGrpSpPr>
        <p:grpSpPr>
          <a:xfrm>
            <a:off x="1564560" y="4928040"/>
            <a:ext cx="898200" cy="1052280"/>
            <a:chOff x="1564560" y="4928040"/>
            <a:chExt cx="898200" cy="1052280"/>
          </a:xfrm>
        </p:grpSpPr>
        <p:sp>
          <p:nvSpPr>
            <p:cNvPr id="291" name="AutoShape 3"/>
            <p:cNvSpPr/>
            <p:nvPr/>
          </p:nvSpPr>
          <p:spPr>
            <a:xfrm rot="4516200">
              <a:off x="1571400" y="5121000"/>
              <a:ext cx="89856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20"/>
            <p:cNvSpPr/>
            <p:nvPr/>
          </p:nvSpPr>
          <p:spPr>
            <a:xfrm rot="4516200">
              <a:off x="1560240" y="5108760"/>
              <a:ext cx="906480" cy="690480"/>
            </a:xfrm>
            <a:prstGeom prst="pie">
              <a:avLst/>
            </a:prstGeom>
            <a:solidFill>
              <a:srgbClr val="b32c16">
                <a:alpha val="7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Group 296" descr=""/>
            <p:cNvPicPr/>
            <p:nvPr/>
          </p:nvPicPr>
          <p:blipFill>
            <a:blip r:embed="rId11"/>
            <a:stretch/>
          </p:blipFill>
          <p:spPr>
            <a:xfrm>
              <a:off x="1950840" y="5285160"/>
              <a:ext cx="201240" cy="2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Group 281"/>
            <p:cNvGrpSpPr/>
            <p:nvPr/>
          </p:nvGrpSpPr>
          <p:grpSpPr>
            <a:xfrm>
              <a:off x="1922040" y="5504400"/>
              <a:ext cx="84960" cy="129600"/>
              <a:chOff x="1922040" y="5504400"/>
              <a:chExt cx="84960" cy="129600"/>
            </a:xfrm>
          </p:grpSpPr>
          <p:sp>
            <p:nvSpPr>
              <p:cNvPr id="295" name="Freeform 50"/>
              <p:cNvSpPr/>
              <p:nvPr/>
            </p:nvSpPr>
            <p:spPr>
              <a:xfrm rot="4516200">
                <a:off x="1927080" y="5568840"/>
                <a:ext cx="60120" cy="572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51"/>
              <p:cNvSpPr/>
              <p:nvPr/>
            </p:nvSpPr>
            <p:spPr>
              <a:xfrm rot="4516200">
                <a:off x="1940760" y="5572800"/>
                <a:ext cx="42840" cy="316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81"/>
              <p:cNvSpPr/>
              <p:nvPr/>
            </p:nvSpPr>
            <p:spPr>
              <a:xfrm rot="4516200">
                <a:off x="1945440" y="5493600"/>
                <a:ext cx="37800" cy="77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82"/>
              <p:cNvSpPr/>
              <p:nvPr/>
            </p:nvSpPr>
            <p:spPr>
              <a:xfrm rot="4516200">
                <a:off x="1957680" y="5495760"/>
                <a:ext cx="12600" cy="60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Freeform 283"/>
            <p:cNvSpPr/>
            <p:nvPr/>
          </p:nvSpPr>
          <p:spPr>
            <a:xfrm rot="4516200">
              <a:off x="2114640" y="5275080"/>
              <a:ext cx="69840" cy="1872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84"/>
            <p:cNvSpPr/>
            <p:nvPr/>
          </p:nvSpPr>
          <p:spPr>
            <a:xfrm rot="4516200">
              <a:off x="2144880" y="5360760"/>
              <a:ext cx="64800" cy="188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725"/>
          <p:cNvGrpSpPr/>
          <p:nvPr/>
        </p:nvGrpSpPr>
        <p:grpSpPr>
          <a:xfrm>
            <a:off x="1149840" y="5889240"/>
            <a:ext cx="873720" cy="857880"/>
            <a:chOff x="1149840" y="5889240"/>
            <a:chExt cx="873720" cy="857880"/>
          </a:xfrm>
        </p:grpSpPr>
        <p:sp>
          <p:nvSpPr>
            <p:cNvPr id="302" name="AutoShape 3"/>
            <p:cNvSpPr/>
            <p:nvPr/>
          </p:nvSpPr>
          <p:spPr>
            <a:xfrm rot="2467200">
              <a:off x="1245960" y="605916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66"/>
            <p:cNvSpPr/>
            <p:nvPr/>
          </p:nvSpPr>
          <p:spPr>
            <a:xfrm rot="2467200">
              <a:off x="1238040" y="6052680"/>
              <a:ext cx="696960" cy="530280"/>
            </a:xfrm>
            <a:prstGeom prst="pie">
              <a:avLst/>
            </a:prstGeom>
            <a:solidFill>
              <a:srgbClr val="777c84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Group 296" descr=""/>
            <p:cNvPicPr/>
            <p:nvPr/>
          </p:nvPicPr>
          <p:blipFill>
            <a:blip r:embed="rId12"/>
            <a:stretch/>
          </p:blipFill>
          <p:spPr>
            <a:xfrm>
              <a:off x="1505880" y="617508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Group 289"/>
            <p:cNvGrpSpPr/>
            <p:nvPr/>
          </p:nvGrpSpPr>
          <p:grpSpPr>
            <a:xfrm>
              <a:off x="1585080" y="6066000"/>
              <a:ext cx="13680" cy="42840"/>
              <a:chOff x="1585080" y="6066000"/>
              <a:chExt cx="13680" cy="42840"/>
            </a:xfrm>
          </p:grpSpPr>
          <p:sp>
            <p:nvSpPr>
              <p:cNvPr id="306" name="Freeform 676"/>
              <p:cNvSpPr/>
              <p:nvPr/>
            </p:nvSpPr>
            <p:spPr>
              <a:xfrm rot="2467200">
                <a:off x="1585800" y="6077520"/>
                <a:ext cx="612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677"/>
              <p:cNvSpPr/>
              <p:nvPr/>
            </p:nvSpPr>
            <p:spPr>
              <a:xfrm rot="2467200">
                <a:off x="1591920" y="6091200"/>
                <a:ext cx="4680" cy="6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678"/>
              <p:cNvSpPr/>
              <p:nvPr/>
            </p:nvSpPr>
            <p:spPr>
              <a:xfrm rot="2467200">
                <a:off x="1596960" y="6106680"/>
                <a:ext cx="14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679"/>
              <p:cNvSpPr/>
              <p:nvPr/>
            </p:nvSpPr>
            <p:spPr>
              <a:xfrm rot="2467200">
                <a:off x="1585800" y="6067080"/>
                <a:ext cx="46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81"/>
            <p:cNvGrpSpPr/>
            <p:nvPr/>
          </p:nvGrpSpPr>
          <p:grpSpPr>
            <a:xfrm>
              <a:off x="1558800" y="6355440"/>
              <a:ext cx="86400" cy="110520"/>
              <a:chOff x="1558800" y="6355440"/>
              <a:chExt cx="86400" cy="110520"/>
            </a:xfrm>
          </p:grpSpPr>
          <p:sp>
            <p:nvSpPr>
              <p:cNvPr id="311" name="Freeform 50"/>
              <p:cNvSpPr/>
              <p:nvPr/>
            </p:nvSpPr>
            <p:spPr>
              <a:xfrm rot="2467200">
                <a:off x="1589040" y="6411600"/>
                <a:ext cx="47520" cy="442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1"/>
              <p:cNvSpPr/>
              <p:nvPr/>
            </p:nvSpPr>
            <p:spPr>
              <a:xfrm rot="2467200">
                <a:off x="1593720" y="6414480"/>
                <a:ext cx="34920" cy="23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81"/>
              <p:cNvSpPr/>
              <p:nvPr/>
            </p:nvSpPr>
            <p:spPr>
              <a:xfrm rot="2467200">
                <a:off x="1574640" y="6357960"/>
                <a:ext cx="30240" cy="60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2"/>
              <p:cNvSpPr/>
              <p:nvPr/>
            </p:nvSpPr>
            <p:spPr>
              <a:xfrm rot="2467200">
                <a:off x="1579680" y="6363720"/>
                <a:ext cx="10800" cy="460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Freeform 283"/>
            <p:cNvSpPr/>
            <p:nvPr/>
          </p:nvSpPr>
          <p:spPr>
            <a:xfrm rot="2467200">
              <a:off x="1609560" y="6132240"/>
              <a:ext cx="5364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84"/>
            <p:cNvSpPr/>
            <p:nvPr/>
          </p:nvSpPr>
          <p:spPr>
            <a:xfrm rot="2467200">
              <a:off x="1666800" y="6176520"/>
              <a:ext cx="5076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726"/>
          <p:cNvGrpSpPr/>
          <p:nvPr/>
        </p:nvGrpSpPr>
        <p:grpSpPr>
          <a:xfrm>
            <a:off x="387000" y="6059520"/>
            <a:ext cx="681840" cy="699840"/>
            <a:chOff x="387000" y="6059520"/>
            <a:chExt cx="681840" cy="699840"/>
          </a:xfrm>
        </p:grpSpPr>
        <p:sp>
          <p:nvSpPr>
            <p:cNvPr id="318" name="AutoShape 3"/>
            <p:cNvSpPr/>
            <p:nvPr/>
          </p:nvSpPr>
          <p:spPr>
            <a:xfrm rot="3025200">
              <a:off x="455760" y="6203520"/>
              <a:ext cx="552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17"/>
            <p:cNvSpPr/>
            <p:nvPr/>
          </p:nvSpPr>
          <p:spPr>
            <a:xfrm rot="3025200">
              <a:off x="449280" y="6197040"/>
              <a:ext cx="557280" cy="424080"/>
            </a:xfrm>
            <a:prstGeom prst="pie">
              <a:avLst/>
            </a:prstGeom>
            <a:solidFill>
              <a:srgbClr val="f5cd2d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Group 296" descr=""/>
            <p:cNvPicPr/>
            <p:nvPr/>
          </p:nvPicPr>
          <p:blipFill>
            <a:blip r:embed="rId13"/>
            <a:stretch/>
          </p:blipFill>
          <p:spPr>
            <a:xfrm>
              <a:off x="670680" y="6297120"/>
              <a:ext cx="12204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1" name="Group 281"/>
            <p:cNvGrpSpPr/>
            <p:nvPr/>
          </p:nvGrpSpPr>
          <p:grpSpPr>
            <a:xfrm>
              <a:off x="694440" y="6440760"/>
              <a:ext cx="63000" cy="89280"/>
              <a:chOff x="694440" y="6440760"/>
              <a:chExt cx="63000" cy="89280"/>
            </a:xfrm>
          </p:grpSpPr>
          <p:sp>
            <p:nvSpPr>
              <p:cNvPr id="322" name="Freeform 50"/>
              <p:cNvSpPr/>
              <p:nvPr/>
            </p:nvSpPr>
            <p:spPr>
              <a:xfrm rot="3025200">
                <a:off x="712440" y="6486480"/>
                <a:ext cx="38160" cy="34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51"/>
              <p:cNvSpPr/>
              <p:nvPr/>
            </p:nvSpPr>
            <p:spPr>
              <a:xfrm rot="3025200">
                <a:off x="717120" y="6487920"/>
                <a:ext cx="27000" cy="20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1"/>
              <p:cNvSpPr/>
              <p:nvPr/>
            </p:nvSpPr>
            <p:spPr>
              <a:xfrm rot="3025200">
                <a:off x="708480" y="6441120"/>
                <a:ext cx="23760" cy="47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82"/>
              <p:cNvSpPr/>
              <p:nvPr/>
            </p:nvSpPr>
            <p:spPr>
              <a:xfrm rot="3025200">
                <a:off x="709920" y="6444000"/>
                <a:ext cx="9360" cy="36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Freeform 283"/>
            <p:cNvSpPr/>
            <p:nvPr/>
          </p:nvSpPr>
          <p:spPr>
            <a:xfrm rot="3025200">
              <a:off x="760320" y="6268680"/>
              <a:ext cx="4284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84"/>
            <p:cNvSpPr/>
            <p:nvPr/>
          </p:nvSpPr>
          <p:spPr>
            <a:xfrm rot="3025200">
              <a:off x="799920" y="6309720"/>
              <a:ext cx="3960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578"/>
          <p:cNvGrpSpPr/>
          <p:nvPr/>
        </p:nvGrpSpPr>
        <p:grpSpPr>
          <a:xfrm>
            <a:off x="1406160" y="3571200"/>
            <a:ext cx="696240" cy="646200"/>
            <a:chOff x="1406160" y="3571200"/>
            <a:chExt cx="696240" cy="646200"/>
          </a:xfrm>
        </p:grpSpPr>
        <p:sp>
          <p:nvSpPr>
            <p:cNvPr id="329" name="AutoShape 3"/>
            <p:cNvSpPr/>
            <p:nvPr/>
          </p:nvSpPr>
          <p:spPr>
            <a:xfrm rot="1778400">
              <a:off x="1479240" y="3686040"/>
              <a:ext cx="554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63"/>
            <p:cNvSpPr/>
            <p:nvPr/>
          </p:nvSpPr>
          <p:spPr>
            <a:xfrm rot="1778400">
              <a:off x="1474920" y="3681360"/>
              <a:ext cx="558720" cy="42552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solidFill>
                <a:srgbClr val="595959">
                  <a:alpha val="6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Group 296" descr=""/>
            <p:cNvPicPr/>
            <p:nvPr/>
          </p:nvPicPr>
          <p:blipFill>
            <a:blip r:embed="rId14"/>
            <a:stretch/>
          </p:blipFill>
          <p:spPr>
            <a:xfrm>
              <a:off x="1676520" y="3773160"/>
              <a:ext cx="13392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Freeform 283"/>
            <p:cNvSpPr/>
            <p:nvPr/>
          </p:nvSpPr>
          <p:spPr>
            <a:xfrm rot="1778400">
              <a:off x="1753920" y="3739680"/>
              <a:ext cx="42840" cy="1141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84"/>
            <p:cNvSpPr/>
            <p:nvPr/>
          </p:nvSpPr>
          <p:spPr>
            <a:xfrm rot="1778400">
              <a:off x="1804680" y="3763440"/>
              <a:ext cx="41040" cy="117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727"/>
          <p:cNvGrpSpPr/>
          <p:nvPr/>
        </p:nvGrpSpPr>
        <p:grpSpPr>
          <a:xfrm>
            <a:off x="187200" y="4785480"/>
            <a:ext cx="1306440" cy="1283040"/>
            <a:chOff x="187200" y="4785480"/>
            <a:chExt cx="1306440" cy="1283040"/>
          </a:xfrm>
        </p:grpSpPr>
        <p:sp>
          <p:nvSpPr>
            <p:cNvPr id="335" name="AutoShape 3"/>
            <p:cNvSpPr/>
            <p:nvPr/>
          </p:nvSpPr>
          <p:spPr>
            <a:xfrm rot="2467200">
              <a:off x="331200" y="5038560"/>
              <a:ext cx="10306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04"/>
            <p:cNvSpPr/>
            <p:nvPr/>
          </p:nvSpPr>
          <p:spPr>
            <a:xfrm rot="2467200">
              <a:off x="320400" y="5029200"/>
              <a:ext cx="1040040" cy="795240"/>
            </a:xfrm>
            <a:prstGeom prst="pie">
              <a:avLst/>
            </a:prstGeom>
            <a:solidFill>
              <a:srgbClr val="aebad5">
                <a:alpha val="6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Group 296" descr=""/>
            <p:cNvPicPr/>
            <p:nvPr/>
          </p:nvPicPr>
          <p:blipFill>
            <a:blip r:embed="rId15"/>
            <a:stretch/>
          </p:blipFill>
          <p:spPr>
            <a:xfrm>
              <a:off x="725400" y="5224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Group 289"/>
            <p:cNvGrpSpPr/>
            <p:nvPr/>
          </p:nvGrpSpPr>
          <p:grpSpPr>
            <a:xfrm>
              <a:off x="837720" y="5046480"/>
              <a:ext cx="20880" cy="65520"/>
              <a:chOff x="837720" y="5046480"/>
              <a:chExt cx="20880" cy="65520"/>
            </a:xfrm>
          </p:grpSpPr>
          <p:sp>
            <p:nvSpPr>
              <p:cNvPr id="339" name="Freeform 814"/>
              <p:cNvSpPr/>
              <p:nvPr/>
            </p:nvSpPr>
            <p:spPr>
              <a:xfrm rot="2467200">
                <a:off x="839520" y="5065200"/>
                <a:ext cx="936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5"/>
              <p:cNvSpPr/>
              <p:nvPr/>
            </p:nvSpPr>
            <p:spPr>
              <a:xfrm rot="2467200">
                <a:off x="847440" y="5085720"/>
                <a:ext cx="792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16"/>
              <p:cNvSpPr/>
              <p:nvPr/>
            </p:nvSpPr>
            <p:spPr>
              <a:xfrm rot="2467200">
                <a:off x="855360" y="5109840"/>
                <a:ext cx="28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17"/>
              <p:cNvSpPr/>
              <p:nvPr/>
            </p:nvSpPr>
            <p:spPr>
              <a:xfrm rot="2467200">
                <a:off x="839880" y="5047920"/>
                <a:ext cx="6120" cy="2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281"/>
            <p:cNvGrpSpPr/>
            <p:nvPr/>
          </p:nvGrpSpPr>
          <p:grpSpPr>
            <a:xfrm>
              <a:off x="800280" y="5484600"/>
              <a:ext cx="125280" cy="164520"/>
              <a:chOff x="800280" y="5484600"/>
              <a:chExt cx="125280" cy="164520"/>
            </a:xfrm>
          </p:grpSpPr>
          <p:sp>
            <p:nvSpPr>
              <p:cNvPr id="344" name="Freeform 50"/>
              <p:cNvSpPr/>
              <p:nvPr/>
            </p:nvSpPr>
            <p:spPr>
              <a:xfrm rot="2467200">
                <a:off x="842760" y="5568840"/>
                <a:ext cx="69840" cy="651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51"/>
              <p:cNvSpPr/>
              <p:nvPr/>
            </p:nvSpPr>
            <p:spPr>
              <a:xfrm rot="2467200">
                <a:off x="850680" y="5572080"/>
                <a:ext cx="50760" cy="36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 rot="2467200">
                <a:off x="823680" y="5487840"/>
                <a:ext cx="44280" cy="88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82"/>
              <p:cNvSpPr/>
              <p:nvPr/>
            </p:nvSpPr>
            <p:spPr>
              <a:xfrm rot="2467200">
                <a:off x="829800" y="5494320"/>
                <a:ext cx="15840" cy="698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Freeform 283"/>
            <p:cNvSpPr/>
            <p:nvPr/>
          </p:nvSpPr>
          <p:spPr>
            <a:xfrm rot="2467200">
              <a:off x="874440" y="5149440"/>
              <a:ext cx="79200" cy="215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4"/>
            <p:cNvSpPr/>
            <p:nvPr/>
          </p:nvSpPr>
          <p:spPr>
            <a:xfrm rot="2467200">
              <a:off x="959040" y="5212800"/>
              <a:ext cx="75960" cy="217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4"/>
          </p:nvPr>
        </p:nvSpPr>
        <p:spPr>
          <a:xfrm>
            <a:off x="5715000" y="54864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040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entury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5"/>
          </p:nvPr>
        </p:nvSpPr>
        <p:spPr>
          <a:xfrm>
            <a:off x="3276360" y="65293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6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29CD-40F5-4EB2-B754-A66E2A57984F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92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393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286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396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88"/>
            <p:cNvSpPr/>
            <p:nvPr/>
          </p:nvSpPr>
          <p:spPr>
            <a:xfrm rot="2467200">
              <a:off x="1215720" y="6016320"/>
              <a:ext cx="696960" cy="530280"/>
            </a:xfrm>
            <a:prstGeom prst="pie">
              <a:avLst/>
            </a:prstGeom>
            <a:solidFill>
              <a:srgbClr val="777c84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9" name="Group 289"/>
            <p:cNvGrpSpPr/>
            <p:nvPr/>
          </p:nvGrpSpPr>
          <p:grpSpPr>
            <a:xfrm>
              <a:off x="1562760" y="6029640"/>
              <a:ext cx="13680" cy="42840"/>
              <a:chOff x="1562760" y="6029640"/>
              <a:chExt cx="13680" cy="42840"/>
            </a:xfrm>
          </p:grpSpPr>
          <p:sp>
            <p:nvSpPr>
              <p:cNvPr id="400" name="Freeform 298"/>
              <p:cNvSpPr/>
              <p:nvPr/>
            </p:nvSpPr>
            <p:spPr>
              <a:xfrm rot="2467200">
                <a:off x="1563480" y="6041160"/>
                <a:ext cx="612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81"/>
            <p:cNvGrpSpPr/>
            <p:nvPr/>
          </p:nvGrpSpPr>
          <p:grpSpPr>
            <a:xfrm>
              <a:off x="1536480" y="6319080"/>
              <a:ext cx="86400" cy="110520"/>
              <a:chOff x="1536480" y="6319080"/>
              <a:chExt cx="86400" cy="110520"/>
            </a:xfrm>
          </p:grpSpPr>
          <p:sp>
            <p:nvSpPr>
              <p:cNvPr id="405" name="Freeform 50"/>
              <p:cNvSpPr/>
              <p:nvPr/>
            </p:nvSpPr>
            <p:spPr>
              <a:xfrm rot="2467200">
                <a:off x="1566720" y="6375240"/>
                <a:ext cx="47520" cy="442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1"/>
              <p:cNvSpPr/>
              <p:nvPr/>
            </p:nvSpPr>
            <p:spPr>
              <a:xfrm rot="2467200">
                <a:off x="1571400" y="6378120"/>
                <a:ext cx="34920" cy="23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81"/>
              <p:cNvSpPr/>
              <p:nvPr/>
            </p:nvSpPr>
            <p:spPr>
              <a:xfrm rot="2467200">
                <a:off x="1552320" y="6321600"/>
                <a:ext cx="30240" cy="60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82"/>
              <p:cNvSpPr/>
              <p:nvPr/>
            </p:nvSpPr>
            <p:spPr>
              <a:xfrm rot="2467200">
                <a:off x="1557360" y="6327360"/>
                <a:ext cx="10800" cy="460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Freeform 283"/>
            <p:cNvSpPr/>
            <p:nvPr/>
          </p:nvSpPr>
          <p:spPr>
            <a:xfrm rot="2467200">
              <a:off x="1587240" y="6095880"/>
              <a:ext cx="5364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84"/>
            <p:cNvSpPr/>
            <p:nvPr/>
          </p:nvSpPr>
          <p:spPr>
            <a:xfrm rot="2467200">
              <a:off x="1644480" y="6140160"/>
              <a:ext cx="5076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37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412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39"/>
            <p:cNvSpPr/>
            <p:nvPr/>
          </p:nvSpPr>
          <p:spPr>
            <a:xfrm rot="3025200">
              <a:off x="363240" y="6229440"/>
              <a:ext cx="556920" cy="423720"/>
            </a:xfrm>
            <a:prstGeom prst="pie">
              <a:avLst/>
            </a:prstGeom>
            <a:solidFill>
              <a:srgbClr val="f5cd2d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Group 281"/>
            <p:cNvGrpSpPr/>
            <p:nvPr/>
          </p:nvGrpSpPr>
          <p:grpSpPr>
            <a:xfrm>
              <a:off x="608400" y="6472440"/>
              <a:ext cx="62640" cy="88920"/>
              <a:chOff x="608400" y="6472440"/>
              <a:chExt cx="62640" cy="88920"/>
            </a:xfrm>
          </p:grpSpPr>
          <p:sp>
            <p:nvSpPr>
              <p:cNvPr id="416" name="Freeform 50"/>
              <p:cNvSpPr/>
              <p:nvPr/>
            </p:nvSpPr>
            <p:spPr>
              <a:xfrm rot="3025200">
                <a:off x="626400" y="6517800"/>
                <a:ext cx="37800" cy="34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51"/>
              <p:cNvSpPr/>
              <p:nvPr/>
            </p:nvSpPr>
            <p:spPr>
              <a:xfrm rot="3025200">
                <a:off x="631080" y="6519600"/>
                <a:ext cx="26640" cy="20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81"/>
              <p:cNvSpPr/>
              <p:nvPr/>
            </p:nvSpPr>
            <p:spPr>
              <a:xfrm rot="3025200">
                <a:off x="622440" y="6472800"/>
                <a:ext cx="23760" cy="47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82"/>
              <p:cNvSpPr/>
              <p:nvPr/>
            </p:nvSpPr>
            <p:spPr>
              <a:xfrm rot="3025200">
                <a:off x="623880" y="6475680"/>
                <a:ext cx="9360" cy="36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Freeform 283"/>
            <p:cNvSpPr/>
            <p:nvPr/>
          </p:nvSpPr>
          <p:spPr>
            <a:xfrm rot="3025200">
              <a:off x="674280" y="6300720"/>
              <a:ext cx="4284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84"/>
            <p:cNvSpPr/>
            <p:nvPr/>
          </p:nvSpPr>
          <p:spPr>
            <a:xfrm rot="3025200">
              <a:off x="713880" y="6341760"/>
              <a:ext cx="3960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383"/>
          <p:cNvGrpSpPr/>
          <p:nvPr/>
        </p:nvGrpSpPr>
        <p:grpSpPr>
          <a:xfrm>
            <a:off x="351720" y="4811040"/>
            <a:ext cx="1306800" cy="1230120"/>
            <a:chOff x="351720" y="4811040"/>
            <a:chExt cx="1306800" cy="1230120"/>
          </a:xfrm>
        </p:grpSpPr>
        <p:sp>
          <p:nvSpPr>
            <p:cNvPr id="423" name="AutoShape 3"/>
            <p:cNvSpPr/>
            <p:nvPr/>
          </p:nvSpPr>
          <p:spPr>
            <a:xfrm rot="1936800">
              <a:off x="493560" y="5035680"/>
              <a:ext cx="10324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85"/>
            <p:cNvSpPr/>
            <p:nvPr/>
          </p:nvSpPr>
          <p:spPr>
            <a:xfrm rot="1936800">
              <a:off x="483840" y="5027760"/>
              <a:ext cx="1042200" cy="796680"/>
            </a:xfrm>
            <a:prstGeom prst="pie">
              <a:avLst/>
            </a:prstGeom>
            <a:solidFill>
              <a:srgbClr val="aebad5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Group 289"/>
            <p:cNvGrpSpPr/>
            <p:nvPr/>
          </p:nvGrpSpPr>
          <p:grpSpPr>
            <a:xfrm>
              <a:off x="946080" y="5048640"/>
              <a:ext cx="29160" cy="60840"/>
              <a:chOff x="946080" y="5048640"/>
              <a:chExt cx="29160" cy="60840"/>
            </a:xfrm>
          </p:grpSpPr>
          <p:sp>
            <p:nvSpPr>
              <p:cNvPr id="427" name="Freeform 395"/>
              <p:cNvSpPr/>
              <p:nvPr/>
            </p:nvSpPr>
            <p:spPr>
              <a:xfrm rot="1936800">
                <a:off x="949320" y="5067000"/>
                <a:ext cx="936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96"/>
              <p:cNvSpPr/>
              <p:nvPr/>
            </p:nvSpPr>
            <p:spPr>
              <a:xfrm rot="1936800">
                <a:off x="960480" y="5084640"/>
                <a:ext cx="612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97"/>
              <p:cNvSpPr/>
              <p:nvPr/>
            </p:nvSpPr>
            <p:spPr>
              <a:xfrm rot="1936800">
                <a:off x="972000" y="5106960"/>
                <a:ext cx="28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98"/>
              <p:cNvSpPr/>
              <p:nvPr/>
            </p:nvSpPr>
            <p:spPr>
              <a:xfrm rot="1936800">
                <a:off x="946080" y="5049720"/>
                <a:ext cx="6120" cy="2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281"/>
            <p:cNvGrpSpPr/>
            <p:nvPr/>
          </p:nvGrpSpPr>
          <p:grpSpPr>
            <a:xfrm>
              <a:off x="984240" y="5479920"/>
              <a:ext cx="133200" cy="159480"/>
              <a:chOff x="984240" y="5479920"/>
              <a:chExt cx="133200" cy="159480"/>
            </a:xfrm>
          </p:grpSpPr>
          <p:sp>
            <p:nvSpPr>
              <p:cNvPr id="432" name="Freeform 50"/>
              <p:cNvSpPr/>
              <p:nvPr/>
            </p:nvSpPr>
            <p:spPr>
              <a:xfrm rot="1936800">
                <a:off x="1035000" y="5559120"/>
                <a:ext cx="69840" cy="666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1"/>
              <p:cNvSpPr/>
              <p:nvPr/>
            </p:nvSpPr>
            <p:spPr>
              <a:xfrm rot="1936800">
                <a:off x="1041840" y="5562720"/>
                <a:ext cx="50760" cy="378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81"/>
              <p:cNvSpPr/>
              <p:nvPr/>
            </p:nvSpPr>
            <p:spPr>
              <a:xfrm rot="1936800">
                <a:off x="1004760" y="5484600"/>
                <a:ext cx="44280" cy="90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82"/>
              <p:cNvSpPr/>
              <p:nvPr/>
            </p:nvSpPr>
            <p:spPr>
              <a:xfrm rot="1936800">
                <a:off x="1011240" y="5492160"/>
                <a:ext cx="15840" cy="698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Freeform 283"/>
            <p:cNvSpPr/>
            <p:nvPr/>
          </p:nvSpPr>
          <p:spPr>
            <a:xfrm rot="1936800">
              <a:off x="1013040" y="5138280"/>
              <a:ext cx="79200" cy="215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84"/>
            <p:cNvSpPr/>
            <p:nvPr/>
          </p:nvSpPr>
          <p:spPr>
            <a:xfrm rot="1936800">
              <a:off x="1105200" y="5189400"/>
              <a:ext cx="75960" cy="217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7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8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9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8764-0800-45B4-B6F8-792C2FA1063F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480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481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8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484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88"/>
            <p:cNvSpPr/>
            <p:nvPr/>
          </p:nvSpPr>
          <p:spPr>
            <a:xfrm rot="2467200">
              <a:off x="1215720" y="6016320"/>
              <a:ext cx="696960" cy="530280"/>
            </a:xfrm>
            <a:prstGeom prst="pie">
              <a:avLst/>
            </a:prstGeom>
            <a:solidFill>
              <a:srgbClr val="777c84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7" name="Group 289"/>
            <p:cNvGrpSpPr/>
            <p:nvPr/>
          </p:nvGrpSpPr>
          <p:grpSpPr>
            <a:xfrm>
              <a:off x="1562760" y="6029640"/>
              <a:ext cx="13680" cy="42840"/>
              <a:chOff x="1562760" y="6029640"/>
              <a:chExt cx="13680" cy="42840"/>
            </a:xfrm>
          </p:grpSpPr>
          <p:sp>
            <p:nvSpPr>
              <p:cNvPr id="488" name="Freeform 298"/>
              <p:cNvSpPr/>
              <p:nvPr/>
            </p:nvSpPr>
            <p:spPr>
              <a:xfrm rot="2467200">
                <a:off x="1563480" y="6041160"/>
                <a:ext cx="612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281"/>
            <p:cNvGrpSpPr/>
            <p:nvPr/>
          </p:nvGrpSpPr>
          <p:grpSpPr>
            <a:xfrm>
              <a:off x="1536480" y="6319080"/>
              <a:ext cx="86400" cy="110520"/>
              <a:chOff x="1536480" y="6319080"/>
              <a:chExt cx="86400" cy="110520"/>
            </a:xfrm>
          </p:grpSpPr>
          <p:sp>
            <p:nvSpPr>
              <p:cNvPr id="493" name="Freeform 50"/>
              <p:cNvSpPr/>
              <p:nvPr/>
            </p:nvSpPr>
            <p:spPr>
              <a:xfrm rot="2467200">
                <a:off x="1566720" y="6375240"/>
                <a:ext cx="47520" cy="442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51"/>
              <p:cNvSpPr/>
              <p:nvPr/>
            </p:nvSpPr>
            <p:spPr>
              <a:xfrm rot="2467200">
                <a:off x="1571400" y="6378120"/>
                <a:ext cx="34920" cy="23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81"/>
              <p:cNvSpPr/>
              <p:nvPr/>
            </p:nvSpPr>
            <p:spPr>
              <a:xfrm rot="2467200">
                <a:off x="1552320" y="6321600"/>
                <a:ext cx="30240" cy="60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2"/>
              <p:cNvSpPr/>
              <p:nvPr/>
            </p:nvSpPr>
            <p:spPr>
              <a:xfrm rot="2467200">
                <a:off x="1557360" y="6327360"/>
                <a:ext cx="10800" cy="460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Freeform 283"/>
            <p:cNvSpPr/>
            <p:nvPr/>
          </p:nvSpPr>
          <p:spPr>
            <a:xfrm rot="2467200">
              <a:off x="1587240" y="6095880"/>
              <a:ext cx="5364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84"/>
            <p:cNvSpPr/>
            <p:nvPr/>
          </p:nvSpPr>
          <p:spPr>
            <a:xfrm rot="2467200">
              <a:off x="1644480" y="6140160"/>
              <a:ext cx="5076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59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500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9"/>
            <p:cNvSpPr/>
            <p:nvPr/>
          </p:nvSpPr>
          <p:spPr>
            <a:xfrm rot="3025200">
              <a:off x="363240" y="6229440"/>
              <a:ext cx="556920" cy="423720"/>
            </a:xfrm>
            <a:prstGeom prst="pie">
              <a:avLst/>
            </a:prstGeom>
            <a:solidFill>
              <a:srgbClr val="f5cd2d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3" name="Group 281"/>
            <p:cNvGrpSpPr/>
            <p:nvPr/>
          </p:nvGrpSpPr>
          <p:grpSpPr>
            <a:xfrm>
              <a:off x="608400" y="6472440"/>
              <a:ext cx="62640" cy="88920"/>
              <a:chOff x="608400" y="6472440"/>
              <a:chExt cx="62640" cy="88920"/>
            </a:xfrm>
          </p:grpSpPr>
          <p:sp>
            <p:nvSpPr>
              <p:cNvPr id="504" name="Freeform 50"/>
              <p:cNvSpPr/>
              <p:nvPr/>
            </p:nvSpPr>
            <p:spPr>
              <a:xfrm rot="3025200">
                <a:off x="626400" y="6517800"/>
                <a:ext cx="37800" cy="34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51"/>
              <p:cNvSpPr/>
              <p:nvPr/>
            </p:nvSpPr>
            <p:spPr>
              <a:xfrm rot="3025200">
                <a:off x="631080" y="6519600"/>
                <a:ext cx="26640" cy="20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81"/>
              <p:cNvSpPr/>
              <p:nvPr/>
            </p:nvSpPr>
            <p:spPr>
              <a:xfrm rot="3025200">
                <a:off x="622440" y="6472800"/>
                <a:ext cx="23760" cy="47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82"/>
              <p:cNvSpPr/>
              <p:nvPr/>
            </p:nvSpPr>
            <p:spPr>
              <a:xfrm rot="3025200">
                <a:off x="623880" y="6475680"/>
                <a:ext cx="9360" cy="36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Freeform 283"/>
            <p:cNvSpPr/>
            <p:nvPr/>
          </p:nvSpPr>
          <p:spPr>
            <a:xfrm rot="3025200">
              <a:off x="674280" y="6300720"/>
              <a:ext cx="4284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84"/>
            <p:cNvSpPr/>
            <p:nvPr/>
          </p:nvSpPr>
          <p:spPr>
            <a:xfrm rot="3025200">
              <a:off x="713880" y="6341760"/>
              <a:ext cx="3960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05"/>
          <p:cNvGrpSpPr/>
          <p:nvPr/>
        </p:nvGrpSpPr>
        <p:grpSpPr>
          <a:xfrm>
            <a:off x="351720" y="4811040"/>
            <a:ext cx="1306800" cy="1230120"/>
            <a:chOff x="351720" y="4811040"/>
            <a:chExt cx="1306800" cy="1230120"/>
          </a:xfrm>
        </p:grpSpPr>
        <p:sp>
          <p:nvSpPr>
            <p:cNvPr id="511" name="AutoShape 3"/>
            <p:cNvSpPr/>
            <p:nvPr/>
          </p:nvSpPr>
          <p:spPr>
            <a:xfrm rot="1936800">
              <a:off x="493560" y="5035680"/>
              <a:ext cx="10324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85"/>
            <p:cNvSpPr/>
            <p:nvPr/>
          </p:nvSpPr>
          <p:spPr>
            <a:xfrm rot="1936800">
              <a:off x="483840" y="5027760"/>
              <a:ext cx="1042200" cy="796680"/>
            </a:xfrm>
            <a:prstGeom prst="pie">
              <a:avLst/>
            </a:prstGeom>
            <a:solidFill>
              <a:srgbClr val="aebad5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4" name="Group 289"/>
            <p:cNvGrpSpPr/>
            <p:nvPr/>
          </p:nvGrpSpPr>
          <p:grpSpPr>
            <a:xfrm>
              <a:off x="946080" y="5048640"/>
              <a:ext cx="29160" cy="60840"/>
              <a:chOff x="946080" y="5048640"/>
              <a:chExt cx="29160" cy="60840"/>
            </a:xfrm>
          </p:grpSpPr>
          <p:sp>
            <p:nvSpPr>
              <p:cNvPr id="515" name="Freeform 395"/>
              <p:cNvSpPr/>
              <p:nvPr/>
            </p:nvSpPr>
            <p:spPr>
              <a:xfrm rot="1936800">
                <a:off x="949320" y="5067000"/>
                <a:ext cx="936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96"/>
              <p:cNvSpPr/>
              <p:nvPr/>
            </p:nvSpPr>
            <p:spPr>
              <a:xfrm rot="1936800">
                <a:off x="960480" y="5084640"/>
                <a:ext cx="612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97"/>
              <p:cNvSpPr/>
              <p:nvPr/>
            </p:nvSpPr>
            <p:spPr>
              <a:xfrm rot="1936800">
                <a:off x="972000" y="5106960"/>
                <a:ext cx="28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98"/>
              <p:cNvSpPr/>
              <p:nvPr/>
            </p:nvSpPr>
            <p:spPr>
              <a:xfrm rot="1936800">
                <a:off x="946080" y="5049720"/>
                <a:ext cx="6120" cy="2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281"/>
            <p:cNvGrpSpPr/>
            <p:nvPr/>
          </p:nvGrpSpPr>
          <p:grpSpPr>
            <a:xfrm>
              <a:off x="984240" y="5479920"/>
              <a:ext cx="133200" cy="159480"/>
              <a:chOff x="984240" y="5479920"/>
              <a:chExt cx="133200" cy="159480"/>
            </a:xfrm>
          </p:grpSpPr>
          <p:sp>
            <p:nvSpPr>
              <p:cNvPr id="520" name="Freeform 50"/>
              <p:cNvSpPr/>
              <p:nvPr/>
            </p:nvSpPr>
            <p:spPr>
              <a:xfrm rot="1936800">
                <a:off x="1035000" y="5559120"/>
                <a:ext cx="69840" cy="666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51"/>
              <p:cNvSpPr/>
              <p:nvPr/>
            </p:nvSpPr>
            <p:spPr>
              <a:xfrm rot="1936800">
                <a:off x="1041840" y="5562720"/>
                <a:ext cx="50760" cy="378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81"/>
              <p:cNvSpPr/>
              <p:nvPr/>
            </p:nvSpPr>
            <p:spPr>
              <a:xfrm rot="1936800">
                <a:off x="1004760" y="5484600"/>
                <a:ext cx="44280" cy="90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282"/>
              <p:cNvSpPr/>
              <p:nvPr/>
            </p:nvSpPr>
            <p:spPr>
              <a:xfrm rot="1936800">
                <a:off x="1011240" y="5492160"/>
                <a:ext cx="15840" cy="698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Freeform 283"/>
            <p:cNvSpPr/>
            <p:nvPr/>
          </p:nvSpPr>
          <p:spPr>
            <a:xfrm rot="1936800">
              <a:off x="1013040" y="5138280"/>
              <a:ext cx="79200" cy="215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84"/>
            <p:cNvSpPr/>
            <p:nvPr/>
          </p:nvSpPr>
          <p:spPr>
            <a:xfrm rot="1936800">
              <a:off x="1105200" y="5189400"/>
              <a:ext cx="75960" cy="217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0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11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12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31A1-5158-4451-9EBB-DFE684F3F6FD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568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569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86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572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88"/>
            <p:cNvSpPr/>
            <p:nvPr/>
          </p:nvSpPr>
          <p:spPr>
            <a:xfrm rot="2467200">
              <a:off x="1215720" y="6016320"/>
              <a:ext cx="696960" cy="530280"/>
            </a:xfrm>
            <a:prstGeom prst="pie">
              <a:avLst/>
            </a:prstGeom>
            <a:solidFill>
              <a:srgbClr val="777c84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5" name="Group 289"/>
            <p:cNvGrpSpPr/>
            <p:nvPr/>
          </p:nvGrpSpPr>
          <p:grpSpPr>
            <a:xfrm>
              <a:off x="1562760" y="6029640"/>
              <a:ext cx="13680" cy="42840"/>
              <a:chOff x="1562760" y="6029640"/>
              <a:chExt cx="13680" cy="42840"/>
            </a:xfrm>
          </p:grpSpPr>
          <p:sp>
            <p:nvSpPr>
              <p:cNvPr id="576" name="Freeform 298"/>
              <p:cNvSpPr/>
              <p:nvPr/>
            </p:nvSpPr>
            <p:spPr>
              <a:xfrm rot="2467200">
                <a:off x="1563480" y="6041160"/>
                <a:ext cx="612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81"/>
            <p:cNvGrpSpPr/>
            <p:nvPr/>
          </p:nvGrpSpPr>
          <p:grpSpPr>
            <a:xfrm>
              <a:off x="1536480" y="6319080"/>
              <a:ext cx="86400" cy="110520"/>
              <a:chOff x="1536480" y="6319080"/>
              <a:chExt cx="86400" cy="110520"/>
            </a:xfrm>
          </p:grpSpPr>
          <p:sp>
            <p:nvSpPr>
              <p:cNvPr id="581" name="Freeform 50"/>
              <p:cNvSpPr/>
              <p:nvPr/>
            </p:nvSpPr>
            <p:spPr>
              <a:xfrm rot="2467200">
                <a:off x="1566720" y="6375240"/>
                <a:ext cx="47520" cy="442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"/>
              <p:cNvSpPr/>
              <p:nvPr/>
            </p:nvSpPr>
            <p:spPr>
              <a:xfrm rot="2467200">
                <a:off x="1571400" y="6378120"/>
                <a:ext cx="34920" cy="23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81"/>
              <p:cNvSpPr/>
              <p:nvPr/>
            </p:nvSpPr>
            <p:spPr>
              <a:xfrm rot="2467200">
                <a:off x="1552320" y="6321600"/>
                <a:ext cx="30240" cy="60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82"/>
              <p:cNvSpPr/>
              <p:nvPr/>
            </p:nvSpPr>
            <p:spPr>
              <a:xfrm rot="2467200">
                <a:off x="1557360" y="6327360"/>
                <a:ext cx="10800" cy="460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Freeform 283"/>
            <p:cNvSpPr/>
            <p:nvPr/>
          </p:nvSpPr>
          <p:spPr>
            <a:xfrm rot="2467200">
              <a:off x="1587240" y="6095880"/>
              <a:ext cx="5364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84"/>
            <p:cNvSpPr/>
            <p:nvPr/>
          </p:nvSpPr>
          <p:spPr>
            <a:xfrm rot="2467200">
              <a:off x="1644480" y="6140160"/>
              <a:ext cx="5076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337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588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9"/>
            <p:cNvSpPr/>
            <p:nvPr/>
          </p:nvSpPr>
          <p:spPr>
            <a:xfrm rot="3025200">
              <a:off x="363240" y="6229440"/>
              <a:ext cx="556920" cy="423720"/>
            </a:xfrm>
            <a:prstGeom prst="pie">
              <a:avLst/>
            </a:prstGeom>
            <a:solidFill>
              <a:srgbClr val="f5cd2d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1" name="Group 281"/>
            <p:cNvGrpSpPr/>
            <p:nvPr/>
          </p:nvGrpSpPr>
          <p:grpSpPr>
            <a:xfrm>
              <a:off x="608400" y="6472440"/>
              <a:ext cx="62640" cy="88920"/>
              <a:chOff x="608400" y="6472440"/>
              <a:chExt cx="62640" cy="88920"/>
            </a:xfrm>
          </p:grpSpPr>
          <p:sp>
            <p:nvSpPr>
              <p:cNvPr id="592" name="Freeform 50"/>
              <p:cNvSpPr/>
              <p:nvPr/>
            </p:nvSpPr>
            <p:spPr>
              <a:xfrm rot="3025200">
                <a:off x="626400" y="6517800"/>
                <a:ext cx="37800" cy="34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51"/>
              <p:cNvSpPr/>
              <p:nvPr/>
            </p:nvSpPr>
            <p:spPr>
              <a:xfrm rot="3025200">
                <a:off x="631080" y="6519600"/>
                <a:ext cx="26640" cy="20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1"/>
              <p:cNvSpPr/>
              <p:nvPr/>
            </p:nvSpPr>
            <p:spPr>
              <a:xfrm rot="3025200">
                <a:off x="622440" y="6472800"/>
                <a:ext cx="23760" cy="47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2"/>
              <p:cNvSpPr/>
              <p:nvPr/>
            </p:nvSpPr>
            <p:spPr>
              <a:xfrm rot="3025200">
                <a:off x="623880" y="6475680"/>
                <a:ext cx="9360" cy="36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Freeform 283"/>
            <p:cNvSpPr/>
            <p:nvPr/>
          </p:nvSpPr>
          <p:spPr>
            <a:xfrm rot="3025200">
              <a:off x="674280" y="6300720"/>
              <a:ext cx="4284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84"/>
            <p:cNvSpPr/>
            <p:nvPr/>
          </p:nvSpPr>
          <p:spPr>
            <a:xfrm rot="3025200">
              <a:off x="713880" y="6341760"/>
              <a:ext cx="3960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383"/>
          <p:cNvGrpSpPr/>
          <p:nvPr/>
        </p:nvGrpSpPr>
        <p:grpSpPr>
          <a:xfrm>
            <a:off x="351720" y="4811040"/>
            <a:ext cx="1306800" cy="1230120"/>
            <a:chOff x="351720" y="4811040"/>
            <a:chExt cx="1306800" cy="1230120"/>
          </a:xfrm>
        </p:grpSpPr>
        <p:sp>
          <p:nvSpPr>
            <p:cNvPr id="599" name="AutoShape 3"/>
            <p:cNvSpPr/>
            <p:nvPr/>
          </p:nvSpPr>
          <p:spPr>
            <a:xfrm rot="1936800">
              <a:off x="493560" y="5035680"/>
              <a:ext cx="10324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85"/>
            <p:cNvSpPr/>
            <p:nvPr/>
          </p:nvSpPr>
          <p:spPr>
            <a:xfrm rot="1936800">
              <a:off x="483840" y="5027760"/>
              <a:ext cx="1042200" cy="796680"/>
            </a:xfrm>
            <a:prstGeom prst="pie">
              <a:avLst/>
            </a:prstGeom>
            <a:solidFill>
              <a:srgbClr val="aebad5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2" name="Group 289"/>
            <p:cNvGrpSpPr/>
            <p:nvPr/>
          </p:nvGrpSpPr>
          <p:grpSpPr>
            <a:xfrm>
              <a:off x="946080" y="5048640"/>
              <a:ext cx="29160" cy="60840"/>
              <a:chOff x="946080" y="5048640"/>
              <a:chExt cx="29160" cy="60840"/>
            </a:xfrm>
          </p:grpSpPr>
          <p:sp>
            <p:nvSpPr>
              <p:cNvPr id="603" name="Freeform 395"/>
              <p:cNvSpPr/>
              <p:nvPr/>
            </p:nvSpPr>
            <p:spPr>
              <a:xfrm rot="1936800">
                <a:off x="949320" y="5067000"/>
                <a:ext cx="936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6"/>
              <p:cNvSpPr/>
              <p:nvPr/>
            </p:nvSpPr>
            <p:spPr>
              <a:xfrm rot="1936800">
                <a:off x="960480" y="5084640"/>
                <a:ext cx="612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7"/>
              <p:cNvSpPr/>
              <p:nvPr/>
            </p:nvSpPr>
            <p:spPr>
              <a:xfrm rot="1936800">
                <a:off x="972000" y="5106960"/>
                <a:ext cx="28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98"/>
              <p:cNvSpPr/>
              <p:nvPr/>
            </p:nvSpPr>
            <p:spPr>
              <a:xfrm rot="1936800">
                <a:off x="946080" y="5049720"/>
                <a:ext cx="6120" cy="2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281"/>
            <p:cNvGrpSpPr/>
            <p:nvPr/>
          </p:nvGrpSpPr>
          <p:grpSpPr>
            <a:xfrm>
              <a:off x="984240" y="5479920"/>
              <a:ext cx="133200" cy="159480"/>
              <a:chOff x="984240" y="5479920"/>
              <a:chExt cx="133200" cy="159480"/>
            </a:xfrm>
          </p:grpSpPr>
          <p:sp>
            <p:nvSpPr>
              <p:cNvPr id="608" name="Freeform 50"/>
              <p:cNvSpPr/>
              <p:nvPr/>
            </p:nvSpPr>
            <p:spPr>
              <a:xfrm rot="1936800">
                <a:off x="1035000" y="5559120"/>
                <a:ext cx="69840" cy="666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1"/>
              <p:cNvSpPr/>
              <p:nvPr/>
            </p:nvSpPr>
            <p:spPr>
              <a:xfrm rot="1936800">
                <a:off x="1041840" y="5562720"/>
                <a:ext cx="50760" cy="378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81"/>
              <p:cNvSpPr/>
              <p:nvPr/>
            </p:nvSpPr>
            <p:spPr>
              <a:xfrm rot="1936800">
                <a:off x="1004760" y="5484600"/>
                <a:ext cx="44280" cy="90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82"/>
              <p:cNvSpPr/>
              <p:nvPr/>
            </p:nvSpPr>
            <p:spPr>
              <a:xfrm rot="1936800">
                <a:off x="1011240" y="5492160"/>
                <a:ext cx="15840" cy="698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Freeform 283"/>
            <p:cNvSpPr/>
            <p:nvPr/>
          </p:nvSpPr>
          <p:spPr>
            <a:xfrm rot="1936800">
              <a:off x="1013040" y="5138280"/>
              <a:ext cx="79200" cy="215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84"/>
            <p:cNvSpPr/>
            <p:nvPr/>
          </p:nvSpPr>
          <p:spPr>
            <a:xfrm rot="1936800">
              <a:off x="1105200" y="5189400"/>
              <a:ext cx="75960" cy="217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13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14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15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96CB-2D3C-45D0-A220-8FBEA10BC216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84" descr="vines15.png"/>
          <p:cNvPicPr/>
          <p:nvPr/>
        </p:nvPicPr>
        <p:blipFill>
          <a:blip r:embed="rId3"/>
          <a:srcRect l="11030" t="27276" r="37248" b="45977"/>
          <a:stretch/>
        </p:blipFill>
        <p:spPr>
          <a:xfrm>
            <a:off x="49320" y="57240"/>
            <a:ext cx="3886200" cy="2444760"/>
          </a:xfrm>
          <a:prstGeom prst="rect">
            <a:avLst/>
          </a:prstGeom>
          <a:ln w="0">
            <a:noFill/>
          </a:ln>
        </p:spPr>
      </p:pic>
      <p:grpSp>
        <p:nvGrpSpPr>
          <p:cNvPr id="656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657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157"/>
          <p:cNvGrpSpPr/>
          <p:nvPr/>
        </p:nvGrpSpPr>
        <p:grpSpPr>
          <a:xfrm>
            <a:off x="195480" y="-3240"/>
            <a:ext cx="1657800" cy="2060280"/>
            <a:chOff x="195480" y="-3240"/>
            <a:chExt cx="1657800" cy="2060280"/>
          </a:xfrm>
        </p:grpSpPr>
        <p:grpSp>
          <p:nvGrpSpPr>
            <p:cNvPr id="660" name="Group 287"/>
            <p:cNvGrpSpPr/>
            <p:nvPr/>
          </p:nvGrpSpPr>
          <p:grpSpPr>
            <a:xfrm>
              <a:off x="1022400" y="1181160"/>
              <a:ext cx="830880" cy="875880"/>
              <a:chOff x="1022400" y="1181160"/>
              <a:chExt cx="830880" cy="875880"/>
            </a:xfrm>
          </p:grpSpPr>
          <p:sp>
            <p:nvSpPr>
              <p:cNvPr id="661" name="AutoShape 3"/>
              <p:cNvSpPr/>
              <p:nvPr/>
            </p:nvSpPr>
            <p:spPr>
              <a:xfrm rot="3360000">
                <a:off x="1097640" y="1358280"/>
                <a:ext cx="691200" cy="5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86"/>
              <p:cNvSpPr/>
              <p:nvPr/>
            </p:nvSpPr>
            <p:spPr>
              <a:xfrm rot="3360000">
                <a:off x="1088640" y="1352880"/>
                <a:ext cx="697680" cy="531720"/>
              </a:xfrm>
              <a:prstGeom prst="pie">
                <a:avLst/>
              </a:prstGeom>
              <a:solidFill>
                <a:srgbClr val="777c84">
                  <a:alpha val="5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3" name="Group 296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1373400" y="1481760"/>
                <a:ext cx="146160" cy="164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289"/>
              <p:cNvGrpSpPr/>
              <p:nvPr/>
            </p:nvGrpSpPr>
            <p:grpSpPr>
              <a:xfrm>
                <a:off x="1495800" y="1372320"/>
                <a:ext cx="10080" cy="46440"/>
                <a:chOff x="1495800" y="1372320"/>
                <a:chExt cx="10080" cy="46440"/>
              </a:xfrm>
            </p:grpSpPr>
            <p:sp>
              <p:nvSpPr>
                <p:cNvPr id="665" name="Freeform 396"/>
                <p:cNvSpPr/>
                <p:nvPr/>
              </p:nvSpPr>
              <p:spPr>
                <a:xfrm rot="3360000">
                  <a:off x="1496160" y="1387080"/>
                  <a:ext cx="6120" cy="468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97"/>
                <p:cNvSpPr/>
                <p:nvPr/>
              </p:nvSpPr>
              <p:spPr>
                <a:xfrm rot="3360000">
                  <a:off x="1499760" y="1398240"/>
                  <a:ext cx="4680" cy="612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98"/>
                <p:cNvSpPr/>
                <p:nvPr/>
              </p:nvSpPr>
              <p:spPr>
                <a:xfrm rot="3360000">
                  <a:off x="1501920" y="1416600"/>
                  <a:ext cx="1440" cy="144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399"/>
                <p:cNvSpPr/>
                <p:nvPr/>
              </p:nvSpPr>
              <p:spPr>
                <a:xfrm rot="3360000">
                  <a:off x="1500120" y="1373760"/>
                  <a:ext cx="4680" cy="144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281"/>
              <p:cNvGrpSpPr/>
              <p:nvPr/>
            </p:nvGrpSpPr>
            <p:grpSpPr>
              <a:xfrm>
                <a:off x="1389240" y="1658520"/>
                <a:ext cx="73440" cy="110520"/>
                <a:chOff x="1389240" y="1658520"/>
                <a:chExt cx="73440" cy="110520"/>
              </a:xfrm>
            </p:grpSpPr>
            <p:sp>
              <p:nvSpPr>
                <p:cNvPr id="670" name="Freeform 50"/>
                <p:cNvSpPr/>
                <p:nvPr/>
              </p:nvSpPr>
              <p:spPr>
                <a:xfrm rot="3360000">
                  <a:off x="1407600" y="1715760"/>
                  <a:ext cx="47520" cy="4284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1"/>
                <p:cNvSpPr/>
                <p:nvPr/>
              </p:nvSpPr>
              <p:spPr>
                <a:xfrm rot="3360000">
                  <a:off x="1416600" y="1717920"/>
                  <a:ext cx="34920" cy="2520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81"/>
                <p:cNvSpPr/>
                <p:nvPr/>
              </p:nvSpPr>
              <p:spPr>
                <a:xfrm rot="3360000">
                  <a:off x="1406520" y="1657800"/>
                  <a:ext cx="30240" cy="5868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82"/>
                <p:cNvSpPr/>
                <p:nvPr/>
              </p:nvSpPr>
              <p:spPr>
                <a:xfrm rot="3360000">
                  <a:off x="1413000" y="1660680"/>
                  <a:ext cx="10800" cy="4572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83"/>
              <p:cNvSpPr/>
              <p:nvPr/>
            </p:nvSpPr>
            <p:spPr>
              <a:xfrm rot="3360000">
                <a:off x="1486800" y="1450440"/>
                <a:ext cx="54000" cy="14436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84"/>
              <p:cNvSpPr/>
              <p:nvPr/>
            </p:nvSpPr>
            <p:spPr>
              <a:xfrm rot="3360000">
                <a:off x="1531440" y="1506240"/>
                <a:ext cx="50760" cy="14436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60"/>
            <p:cNvGrpSpPr/>
            <p:nvPr/>
          </p:nvGrpSpPr>
          <p:grpSpPr>
            <a:xfrm>
              <a:off x="195480" y="1194120"/>
              <a:ext cx="620640" cy="685800"/>
              <a:chOff x="195480" y="1194120"/>
              <a:chExt cx="620640" cy="685800"/>
            </a:xfrm>
          </p:grpSpPr>
          <p:sp>
            <p:nvSpPr>
              <p:cNvPr id="677" name="AutoShape 3"/>
              <p:cNvSpPr/>
              <p:nvPr/>
            </p:nvSpPr>
            <p:spPr>
              <a:xfrm rot="3918000">
                <a:off x="232200" y="1330560"/>
                <a:ext cx="55440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41"/>
              <p:cNvSpPr/>
              <p:nvPr/>
            </p:nvSpPr>
            <p:spPr>
              <a:xfrm rot="3918000">
                <a:off x="226080" y="1324080"/>
                <a:ext cx="559080" cy="425880"/>
              </a:xfrm>
              <a:prstGeom prst="pie">
                <a:avLst/>
              </a:prstGeom>
              <a:solidFill>
                <a:srgbClr val="f5cd2d">
                  <a:alpha val="3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9" name="Group 296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58280" y="1426680"/>
                <a:ext cx="128160" cy="14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0" name="Group 281"/>
              <p:cNvGrpSpPr/>
              <p:nvPr/>
            </p:nvGrpSpPr>
            <p:grpSpPr>
              <a:xfrm>
                <a:off x="456840" y="1569960"/>
                <a:ext cx="53280" cy="85680"/>
                <a:chOff x="456840" y="1569960"/>
                <a:chExt cx="53280" cy="85680"/>
              </a:xfrm>
            </p:grpSpPr>
            <p:sp>
              <p:nvSpPr>
                <p:cNvPr id="681" name="Freeform 50"/>
                <p:cNvSpPr/>
                <p:nvPr/>
              </p:nvSpPr>
              <p:spPr>
                <a:xfrm rot="3918000">
                  <a:off x="466200" y="1613160"/>
                  <a:ext cx="38160" cy="3492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51"/>
                <p:cNvSpPr/>
                <p:nvPr/>
              </p:nvSpPr>
              <p:spPr>
                <a:xfrm rot="3918000">
                  <a:off x="471960" y="1614960"/>
                  <a:ext cx="27000" cy="2052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81"/>
                <p:cNvSpPr/>
                <p:nvPr/>
              </p:nvSpPr>
              <p:spPr>
                <a:xfrm rot="3918000">
                  <a:off x="471240" y="1566720"/>
                  <a:ext cx="23760" cy="4752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82"/>
                <p:cNvSpPr/>
                <p:nvPr/>
              </p:nvSpPr>
              <p:spPr>
                <a:xfrm rot="3918000">
                  <a:off x="474480" y="1568160"/>
                  <a:ext cx="9360" cy="3636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283"/>
              <p:cNvSpPr/>
              <p:nvPr/>
            </p:nvSpPr>
            <p:spPr>
              <a:xfrm rot="3918000">
                <a:off x="557640" y="1412640"/>
                <a:ext cx="42840" cy="11448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84"/>
              <p:cNvSpPr/>
              <p:nvPr/>
            </p:nvSpPr>
            <p:spPr>
              <a:xfrm rot="3918000">
                <a:off x="583560" y="1460520"/>
                <a:ext cx="41040" cy="11736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06"/>
            <p:cNvGrpSpPr/>
            <p:nvPr/>
          </p:nvGrpSpPr>
          <p:grpSpPr>
            <a:xfrm>
              <a:off x="470880" y="-3240"/>
              <a:ext cx="1290960" cy="1304280"/>
              <a:chOff x="470880" y="-3240"/>
              <a:chExt cx="1290960" cy="1304280"/>
            </a:xfrm>
          </p:grpSpPr>
          <p:sp>
            <p:nvSpPr>
              <p:cNvPr id="688" name="AutoShape 3"/>
              <p:cNvSpPr/>
              <p:nvPr/>
            </p:nvSpPr>
            <p:spPr>
              <a:xfrm rot="2830200">
                <a:off x="607680" y="260280"/>
                <a:ext cx="1031400" cy="76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91"/>
              <p:cNvSpPr/>
              <p:nvPr/>
            </p:nvSpPr>
            <p:spPr>
              <a:xfrm rot="2830200">
                <a:off x="595800" y="250920"/>
                <a:ext cx="1041120" cy="795240"/>
              </a:xfrm>
              <a:prstGeom prst="pie">
                <a:avLst/>
              </a:prstGeom>
              <a:solidFill>
                <a:srgbClr val="aebad5">
                  <a:alpha val="4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Group 296" descr=""/>
              <p:cNvPicPr/>
              <p:nvPr/>
            </p:nvPicPr>
            <p:blipFill>
              <a:blip r:embed="rId7"/>
              <a:stretch/>
            </p:blipFill>
            <p:spPr>
              <a:xfrm rot="21598800">
                <a:off x="1006920" y="445320"/>
                <a:ext cx="225720" cy="23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1" name="Group 289"/>
              <p:cNvGrpSpPr/>
              <p:nvPr/>
            </p:nvGrpSpPr>
            <p:grpSpPr>
              <a:xfrm>
                <a:off x="1151640" y="268920"/>
                <a:ext cx="17640" cy="68400"/>
                <a:chOff x="1151640" y="268920"/>
                <a:chExt cx="17640" cy="68400"/>
              </a:xfrm>
            </p:grpSpPr>
            <p:sp>
              <p:nvSpPr>
                <p:cNvPr id="692" name="Freeform 301"/>
                <p:cNvSpPr/>
                <p:nvPr/>
              </p:nvSpPr>
              <p:spPr>
                <a:xfrm rot="2830200">
                  <a:off x="1153440" y="289440"/>
                  <a:ext cx="9360" cy="936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302"/>
                <p:cNvSpPr/>
                <p:nvPr/>
              </p:nvSpPr>
              <p:spPr>
                <a:xfrm rot="2830200">
                  <a:off x="1158840" y="309600"/>
                  <a:ext cx="7920" cy="936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303"/>
                <p:cNvSpPr/>
                <p:nvPr/>
              </p:nvSpPr>
              <p:spPr>
                <a:xfrm rot="2830200">
                  <a:off x="1164240" y="334800"/>
                  <a:ext cx="2880" cy="144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04"/>
                <p:cNvSpPr/>
                <p:nvPr/>
              </p:nvSpPr>
              <p:spPr>
                <a:xfrm rot="2830200">
                  <a:off x="1154880" y="270360"/>
                  <a:ext cx="6120" cy="288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Group 281"/>
              <p:cNvGrpSpPr/>
              <p:nvPr/>
            </p:nvGrpSpPr>
            <p:grpSpPr>
              <a:xfrm>
                <a:off x="1060920" y="706680"/>
                <a:ext cx="118440" cy="167400"/>
                <a:chOff x="1060920" y="706680"/>
                <a:chExt cx="118440" cy="167400"/>
              </a:xfrm>
            </p:grpSpPr>
            <p:sp>
              <p:nvSpPr>
                <p:cNvPr id="697" name="Freeform 50"/>
                <p:cNvSpPr/>
                <p:nvPr/>
              </p:nvSpPr>
              <p:spPr>
                <a:xfrm rot="2830200">
                  <a:off x="1096560" y="793800"/>
                  <a:ext cx="69840" cy="6480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51"/>
                <p:cNvSpPr/>
                <p:nvPr/>
              </p:nvSpPr>
              <p:spPr>
                <a:xfrm rot="2830200">
                  <a:off x="1108080" y="796680"/>
                  <a:ext cx="50760" cy="3636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81"/>
                <p:cNvSpPr/>
                <p:nvPr/>
              </p:nvSpPr>
              <p:spPr>
                <a:xfrm rot="2830200">
                  <a:off x="1086120" y="708480"/>
                  <a:ext cx="44280" cy="8892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282"/>
                <p:cNvSpPr/>
                <p:nvPr/>
              </p:nvSpPr>
              <p:spPr>
                <a:xfrm rot="2830200">
                  <a:off x="1092960" y="714960"/>
                  <a:ext cx="15840" cy="6984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Freeform 283"/>
              <p:cNvSpPr/>
              <p:nvPr/>
            </p:nvSpPr>
            <p:spPr>
              <a:xfrm rot="2830200">
                <a:off x="1168200" y="379440"/>
                <a:ext cx="79200" cy="21564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284"/>
              <p:cNvSpPr/>
              <p:nvPr/>
            </p:nvSpPr>
            <p:spPr>
              <a:xfrm rot="2830200">
                <a:off x="1243440" y="452160"/>
                <a:ext cx="75960" cy="21744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3" name="Group 245"/>
          <p:cNvGrpSpPr/>
          <p:nvPr/>
        </p:nvGrpSpPr>
        <p:grpSpPr>
          <a:xfrm>
            <a:off x="8404560" y="5963040"/>
            <a:ext cx="701280" cy="684720"/>
            <a:chOff x="8404560" y="5963040"/>
            <a:chExt cx="701280" cy="684720"/>
          </a:xfrm>
        </p:grpSpPr>
        <p:sp>
          <p:nvSpPr>
            <p:cNvPr id="704" name="AutoShape 3"/>
            <p:cNvSpPr/>
            <p:nvPr/>
          </p:nvSpPr>
          <p:spPr>
            <a:xfrm rot="2397600">
              <a:off x="8480160" y="6097680"/>
              <a:ext cx="5540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37"/>
            <p:cNvSpPr/>
            <p:nvPr/>
          </p:nvSpPr>
          <p:spPr>
            <a:xfrm rot="2397600">
              <a:off x="8475480" y="6092640"/>
              <a:ext cx="558720" cy="42516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Group 296" descr=""/>
            <p:cNvPicPr/>
            <p:nvPr/>
          </p:nvPicPr>
          <p:blipFill>
            <a:blip r:embed="rId8"/>
            <a:stretch/>
          </p:blipFill>
          <p:spPr>
            <a:xfrm rot="21599400">
              <a:off x="8687160" y="6187320"/>
              <a:ext cx="12780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Freeform 283"/>
            <p:cNvSpPr/>
            <p:nvPr/>
          </p:nvSpPr>
          <p:spPr>
            <a:xfrm rot="2397600">
              <a:off x="8771040" y="6156000"/>
              <a:ext cx="42840" cy="1141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84"/>
            <p:cNvSpPr/>
            <p:nvPr/>
          </p:nvSpPr>
          <p:spPr>
            <a:xfrm rot="2397600">
              <a:off x="8817120" y="6188040"/>
              <a:ext cx="41040" cy="117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16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17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18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0AB4-9688-4466-9F04-464A301D00A8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32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56760" y="-357480"/>
            <a:ext cx="600084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entury"/>
              </a:rPr>
              <a:t>Social Science Department</a:t>
            </a:r>
            <a:endParaRPr b="0" lang="en-US" sz="32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51" name="Subtitle 2" descr=""/>
          <p:cNvPicPr/>
          <p:nvPr/>
        </p:nvPicPr>
        <p:blipFill>
          <a:blip r:embed="rId2"/>
          <a:stretch/>
        </p:blipFill>
        <p:spPr>
          <a:xfrm>
            <a:off x="5278320" y="5041800"/>
            <a:ext cx="3872160" cy="1608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595959"/>
                </a:solidFill>
                <a:latin typeface="Century"/>
              </a:rPr>
              <a:t>The Finished Product</a:t>
            </a:r>
            <a:br>
              <a:rPr sz="2800"/>
            </a:br>
            <a:r>
              <a:rPr b="0" i="1" lang="en-AU" sz="2000" spc="-1" strike="noStrike">
                <a:solidFill>
                  <a:srgbClr val="595959"/>
                </a:solidFill>
                <a:latin typeface="Century"/>
              </a:rPr>
              <a:t>The Analogy: It was like Building a House</a:t>
            </a:r>
            <a:endParaRPr b="0" lang="en-US" sz="20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53" name="Content Placeholder 7" descr=""/>
          <p:cNvPicPr/>
          <p:nvPr/>
        </p:nvPicPr>
        <p:blipFill>
          <a:blip r:embed="rId2"/>
          <a:stretch/>
        </p:blipFill>
        <p:spPr>
          <a:xfrm>
            <a:off x="1206360" y="1420920"/>
            <a:ext cx="7016760" cy="20174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2" descr=""/>
          <p:cNvPicPr/>
          <p:nvPr/>
        </p:nvPicPr>
        <p:blipFill>
          <a:blip r:embed="rId3"/>
          <a:stretch/>
        </p:blipFill>
        <p:spPr>
          <a:xfrm>
            <a:off x="4572000" y="2714760"/>
            <a:ext cx="4357800" cy="30002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" descr=""/>
          <p:cNvPicPr/>
          <p:nvPr/>
        </p:nvPicPr>
        <p:blipFill>
          <a:blip r:embed="rId4"/>
          <a:stretch/>
        </p:blipFill>
        <p:spPr>
          <a:xfrm>
            <a:off x="1928880" y="3789360"/>
            <a:ext cx="3309840" cy="2068560"/>
          </a:xfrm>
          <a:prstGeom prst="rect">
            <a:avLst/>
          </a:prstGeom>
          <a:ln w="0">
            <a:noFill/>
          </a:ln>
        </p:spPr>
      </p:pic>
      <p:sp>
        <p:nvSpPr>
          <p:cNvPr id="756" name="TextBox 11"/>
          <p:cNvSpPr/>
          <p:nvPr/>
        </p:nvSpPr>
        <p:spPr>
          <a:xfrm>
            <a:off x="5143680" y="5786280"/>
            <a:ext cx="3786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300" spc="-1" strike="noStrike">
                <a:solidFill>
                  <a:srgbClr val="000000"/>
                </a:solidFill>
                <a:latin typeface="Century"/>
              </a:rPr>
              <a:t>The finished product is called a blog (like a website , only easier to create) &amp; will be seen by the world wide web (eg: paren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300" spc="-1" strike="noStrike">
                <a:solidFill>
                  <a:srgbClr val="000000"/>
                </a:solidFill>
                <a:latin typeface="Century"/>
              </a:rPr>
              <a:t>- created by steps 1 – 5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2"/>
          <p:cNvSpPr/>
          <p:nvPr/>
        </p:nvSpPr>
        <p:spPr>
          <a:xfrm>
            <a:off x="1928880" y="585792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Century"/>
              </a:rPr>
              <a:t>This is where kids draft / brainstorm  / edit their ideas for the official blog pages content. This is called a wiki (like butchers paper we use in a classroo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7252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595959"/>
                </a:solidFill>
                <a:latin typeface="Century"/>
              </a:rPr>
              <a:t>Step 1: Talk about what you want the ‘house’ to be able to do</a:t>
            </a:r>
            <a:endParaRPr b="0" lang="en-US" sz="16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59" name="Content Placeholder 2" descr=""/>
          <p:cNvPicPr/>
          <p:nvPr/>
        </p:nvPicPr>
        <p:blipFill>
          <a:blip r:embed="rId2"/>
          <a:stretch/>
        </p:blipFill>
        <p:spPr>
          <a:xfrm>
            <a:off x="2352600" y="3822840"/>
            <a:ext cx="6377040" cy="2754000"/>
          </a:xfrm>
          <a:prstGeom prst="rect">
            <a:avLst/>
          </a:prstGeom>
          <a:ln w="0">
            <a:noFill/>
          </a:ln>
        </p:spPr>
      </p:pic>
      <p:pic>
        <p:nvPicPr>
          <p:cNvPr id="760" name="Text Placeholder 3" descr=""/>
          <p:cNvPicPr/>
          <p:nvPr/>
        </p:nvPicPr>
        <p:blipFill>
          <a:blip r:embed="rId3"/>
          <a:stretch/>
        </p:blipFill>
        <p:spPr>
          <a:xfrm>
            <a:off x="487440" y="847800"/>
            <a:ext cx="6808680" cy="26575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" descr="C:\Users\broo\AppData\Local\Microsoft\Windows\Temporary Internet Files\Content.IE5\8JJ30B6Z\MCj04382070000[1].wmf"/>
          <p:cNvPicPr/>
          <p:nvPr/>
        </p:nvPicPr>
        <p:blipFill>
          <a:blip r:embed="rId4"/>
          <a:stretch/>
        </p:blipFill>
        <p:spPr>
          <a:xfrm>
            <a:off x="7715160" y="2786040"/>
            <a:ext cx="528840" cy="7318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7" descr="C:\Users\broo\AppData\Local\Microsoft\Windows\Temporary Internet Files\Content.IE5\FF54M7R5\MCj01412070000[1].wmf"/>
          <p:cNvPicPr/>
          <p:nvPr/>
        </p:nvPicPr>
        <p:blipFill>
          <a:blip r:embed="rId5"/>
          <a:stretch/>
        </p:blipFill>
        <p:spPr>
          <a:xfrm>
            <a:off x="6643800" y="2286000"/>
            <a:ext cx="1062000" cy="17845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9" descr="C:\Users\broo\AppData\Local\Microsoft\Windows\Temporary Internet Files\Content.IE5\TDI2SNJ3\MCj02925940000[1].wmf"/>
          <p:cNvPicPr/>
          <p:nvPr/>
        </p:nvPicPr>
        <p:blipFill>
          <a:blip r:embed="rId6"/>
          <a:stretch/>
        </p:blipFill>
        <p:spPr>
          <a:xfrm>
            <a:off x="6215040" y="1785960"/>
            <a:ext cx="7254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00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Step 2: Location, Location, Location</a:t>
            </a:r>
            <a:br>
              <a:rPr sz="2400"/>
            </a:br>
            <a:endParaRPr b="0" lang="en-US" sz="24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65" name="Text Placeholder 3" descr=""/>
          <p:cNvPicPr/>
          <p:nvPr/>
        </p:nvPicPr>
        <p:blipFill>
          <a:blip r:embed="rId2"/>
          <a:stretch/>
        </p:blipFill>
        <p:spPr>
          <a:xfrm>
            <a:off x="438120" y="1206360"/>
            <a:ext cx="3371760" cy="1841760"/>
          </a:xfrm>
          <a:prstGeom prst="rect">
            <a:avLst/>
          </a:prstGeom>
          <a:ln w="0">
            <a:noFill/>
          </a:ln>
        </p:spPr>
      </p:pic>
      <p:pic>
        <p:nvPicPr>
          <p:cNvPr id="766" name="Text Placeholder 3" descr=""/>
          <p:cNvPicPr/>
          <p:nvPr/>
        </p:nvPicPr>
        <p:blipFill>
          <a:blip r:embed="rId3"/>
          <a:stretch/>
        </p:blipFill>
        <p:spPr>
          <a:xfrm>
            <a:off x="2494080" y="2992320"/>
            <a:ext cx="6016680" cy="420696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6" descr="C:\Users\broo\AppData\Local\Microsoft\Windows\Temporary Internet Files\Content.IE5\76Z55E12\MCj04397700000[1].png"/>
          <p:cNvPicPr/>
          <p:nvPr/>
        </p:nvPicPr>
        <p:blipFill>
          <a:blip r:embed="rId4"/>
          <a:stretch/>
        </p:blipFill>
        <p:spPr>
          <a:xfrm>
            <a:off x="6357960" y="785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2" descr="C:\Users\broo\AppData\Local\Microsoft\Windows\Temporary Internet Files\Content.IE5\E1B67P6H\MCj04284550000[1].wmf"/>
          <p:cNvPicPr/>
          <p:nvPr/>
        </p:nvPicPr>
        <p:blipFill>
          <a:blip r:embed="rId5"/>
          <a:stretch/>
        </p:blipFill>
        <p:spPr>
          <a:xfrm>
            <a:off x="4714920" y="1143000"/>
            <a:ext cx="928800" cy="942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6" descr="C:\Users\broo\AppData\Local\Microsoft\Windows\Temporary Internet Files\Content.IE5\8JJ30B6Z\MCj01858800000[1].wmf"/>
          <p:cNvPicPr/>
          <p:nvPr/>
        </p:nvPicPr>
        <p:blipFill>
          <a:blip r:embed="rId6"/>
          <a:stretch/>
        </p:blipFill>
        <p:spPr>
          <a:xfrm>
            <a:off x="5786280" y="1447920"/>
            <a:ext cx="15004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7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Step 3: Architecture </a:t>
            </a:r>
            <a:br>
              <a:rPr sz="2400"/>
            </a:br>
            <a:endParaRPr b="0" lang="en-US" sz="24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71" name="Text Placeholder 3" descr=""/>
          <p:cNvPicPr/>
          <p:nvPr/>
        </p:nvPicPr>
        <p:blipFill>
          <a:blip r:embed="rId2"/>
          <a:stretch/>
        </p:blipFill>
        <p:spPr>
          <a:xfrm>
            <a:off x="438120" y="1279440"/>
            <a:ext cx="3048120" cy="18417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" descr=""/>
          <p:cNvPicPr/>
          <p:nvPr/>
        </p:nvPicPr>
        <p:blipFill>
          <a:blip r:embed="rId3"/>
          <a:stretch/>
        </p:blipFill>
        <p:spPr>
          <a:xfrm>
            <a:off x="4071960" y="0"/>
            <a:ext cx="7358040" cy="6858000"/>
          </a:xfrm>
          <a:prstGeom prst="rect">
            <a:avLst/>
          </a:prstGeom>
          <a:ln w="0">
            <a:noFill/>
          </a:ln>
        </p:spPr>
      </p:pic>
      <p:cxnSp>
        <p:nvCxnSpPr>
          <p:cNvPr id="773" name="Straight Arrow Connector 6"/>
          <p:cNvCxnSpPr/>
          <p:nvPr/>
        </p:nvCxnSpPr>
        <p:spPr>
          <a:xfrm>
            <a:off x="3428640" y="2928960"/>
            <a:ext cx="2143800" cy="357840"/>
          </a:xfrm>
          <a:prstGeom prst="straightConnector1">
            <a:avLst/>
          </a:prstGeom>
          <a:ln w="9360">
            <a:solidFill>
              <a:srgbClr val="2c3036"/>
            </a:solidFill>
            <a:miter/>
            <a:tailEnd len="med" type="arrow" w="med"/>
          </a:ln>
        </p:spPr>
      </p:cxnSp>
      <p:cxnSp>
        <p:nvCxnSpPr>
          <p:cNvPr id="774" name="Straight Arrow Connector 8"/>
          <p:cNvCxnSpPr/>
          <p:nvPr/>
        </p:nvCxnSpPr>
        <p:spPr>
          <a:xfrm>
            <a:off x="3429000" y="2928960"/>
            <a:ext cx="2215440" cy="643320"/>
          </a:xfrm>
          <a:prstGeom prst="straightConnector1">
            <a:avLst/>
          </a:prstGeom>
          <a:ln w="9360">
            <a:solidFill>
              <a:srgbClr val="2c3036"/>
            </a:solidFill>
            <a:miter/>
            <a:tailEnd len="med" type="arrow" w="med"/>
          </a:ln>
        </p:spPr>
      </p:cxnSp>
      <p:cxnSp>
        <p:nvCxnSpPr>
          <p:cNvPr id="775" name="Straight Arrow Connector 13"/>
          <p:cNvCxnSpPr/>
          <p:nvPr/>
        </p:nvCxnSpPr>
        <p:spPr>
          <a:xfrm>
            <a:off x="3428640" y="2928600"/>
            <a:ext cx="2143800" cy="1143720"/>
          </a:xfrm>
          <a:prstGeom prst="straightConnector1">
            <a:avLst/>
          </a:prstGeom>
          <a:ln w="9360">
            <a:solidFill>
              <a:srgbClr val="2c3036"/>
            </a:solidFill>
            <a:miter/>
            <a:tailEnd len="med" type="arrow" w="med"/>
          </a:ln>
        </p:spPr>
      </p:cxnSp>
      <p:pic>
        <p:nvPicPr>
          <p:cNvPr id="776" name="Picture 12" descr="C:\Users\broo\AppData\Local\Microsoft\Windows\Temporary Internet Files\Content.IE5\TDI2SNJ3\MPj03139640000[1].jpg"/>
          <p:cNvPicPr/>
          <p:nvPr/>
        </p:nvPicPr>
        <p:blipFill>
          <a:blip r:embed="rId4"/>
          <a:stretch/>
        </p:blipFill>
        <p:spPr>
          <a:xfrm>
            <a:off x="2643120" y="4071960"/>
            <a:ext cx="2786040" cy="2303280"/>
          </a:xfrm>
          <a:prstGeom prst="rect">
            <a:avLst/>
          </a:prstGeom>
          <a:ln w="0">
            <a:noFill/>
          </a:ln>
        </p:spPr>
      </p:pic>
      <p:cxnSp>
        <p:nvCxnSpPr>
          <p:cNvPr id="777" name="Straight Arrow Connector 18"/>
          <p:cNvCxnSpPr/>
          <p:nvPr/>
        </p:nvCxnSpPr>
        <p:spPr>
          <a:xfrm>
            <a:off x="3429000" y="1500120"/>
            <a:ext cx="2358000" cy="215280"/>
          </a:xfrm>
          <a:prstGeom prst="straightConnector1">
            <a:avLst/>
          </a:prstGeom>
          <a:ln w="9360">
            <a:solidFill>
              <a:srgbClr val="2924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Step 4: Build it</a:t>
            </a:r>
            <a:br>
              <a:rPr sz="2400"/>
            </a:br>
            <a:endParaRPr b="0" lang="en-US" sz="24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79" name="Text Placeholder 3" descr=""/>
          <p:cNvPicPr/>
          <p:nvPr/>
        </p:nvPicPr>
        <p:blipFill>
          <a:blip r:embed="rId2"/>
          <a:stretch/>
        </p:blipFill>
        <p:spPr>
          <a:xfrm>
            <a:off x="493560" y="1133640"/>
            <a:ext cx="6797880" cy="17985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" descr=""/>
          <p:cNvPicPr/>
          <p:nvPr/>
        </p:nvPicPr>
        <p:blipFill>
          <a:blip r:embed="rId3"/>
          <a:stretch/>
        </p:blipFill>
        <p:spPr>
          <a:xfrm>
            <a:off x="2697120" y="2716200"/>
            <a:ext cx="6375600" cy="40705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5" descr="C:\Users\broo\AppData\Local\Microsoft\Windows\Temporary Internet Files\Content.IE5\PP7STZMW\MPj04068300000[1].jpg"/>
          <p:cNvPicPr/>
          <p:nvPr/>
        </p:nvPicPr>
        <p:blipFill>
          <a:blip r:embed="rId4"/>
          <a:stretch/>
        </p:blipFill>
        <p:spPr>
          <a:xfrm>
            <a:off x="1500120" y="4286160"/>
            <a:ext cx="2451240" cy="16383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" descr="C:\Users\broo\AppData\Local\Microsoft\Windows\Temporary Internet Files\Content.IE5\76Z55E12\MCj02378020000[1].wmf"/>
          <p:cNvPicPr/>
          <p:nvPr/>
        </p:nvPicPr>
        <p:blipFill>
          <a:blip r:embed="rId5"/>
          <a:stretch/>
        </p:blipFill>
        <p:spPr>
          <a:xfrm>
            <a:off x="3214800" y="142920"/>
            <a:ext cx="1000080" cy="12492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8" descr="C:\Users\broo\AppData\Local\Microsoft\Windows\Temporary Internet Files\Content.IE5\DVHF2IYL\MCj03308770000[1].wmf"/>
          <p:cNvPicPr/>
          <p:nvPr/>
        </p:nvPicPr>
        <p:blipFill>
          <a:blip r:embed="rId6"/>
          <a:stretch/>
        </p:blipFill>
        <p:spPr>
          <a:xfrm>
            <a:off x="1714680" y="2714760"/>
            <a:ext cx="100008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60721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Finished Blog </a:t>
            </a:r>
            <a:r>
              <a:rPr b="0" i="1" lang="en-AU" sz="2400" spc="-1" strike="noStrike">
                <a:solidFill>
                  <a:srgbClr val="595959"/>
                </a:solidFill>
                <a:latin typeface="Century"/>
              </a:rPr>
              <a:t>(house for my class)</a:t>
            </a:r>
            <a:br>
              <a:rPr sz="2400"/>
            </a:br>
            <a:r>
              <a:rPr b="0" lang="en-AU" sz="2000" spc="-1" strike="noStrike">
                <a:solidFill>
                  <a:srgbClr val="595959"/>
                </a:solidFill>
                <a:latin typeface="Century"/>
              </a:rPr>
              <a:t>google: </a:t>
            </a:r>
            <a:r>
              <a:rPr b="0" i="1" lang="en-AU" sz="1800" spc="-1" strike="noStrike">
                <a:solidFill>
                  <a:srgbClr val="595959"/>
                </a:solidFill>
                <a:latin typeface="Century"/>
              </a:rPr>
              <a:t>misskellyscommerceclass.edublogs</a:t>
            </a:r>
            <a:br>
              <a:rPr sz="2400"/>
            </a:br>
            <a:endParaRPr b="0" lang="en-US" sz="18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2"/>
          <a:stretch/>
        </p:blipFill>
        <p:spPr>
          <a:xfrm>
            <a:off x="3643200" y="4152960"/>
            <a:ext cx="4214880" cy="26337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3"/>
          <a:stretch/>
        </p:blipFill>
        <p:spPr>
          <a:xfrm>
            <a:off x="3643200" y="1392120"/>
            <a:ext cx="4214880" cy="26798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C:\Users\broo\AppData\Local\Microsoft\Windows\Temporary Internet Files\Content.IE5\PP7STZMW\MCj01048820000[1].wmf"/>
          <p:cNvPicPr/>
          <p:nvPr/>
        </p:nvPicPr>
        <p:blipFill>
          <a:blip r:embed="rId4"/>
          <a:stretch/>
        </p:blipFill>
        <p:spPr>
          <a:xfrm>
            <a:off x="1071720" y="1428840"/>
            <a:ext cx="1827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654372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Finished Wiki</a:t>
            </a:r>
            <a:r>
              <a:rPr b="0" i="1" lang="en-AU" sz="2400" spc="-1" strike="noStrike">
                <a:solidFill>
                  <a:srgbClr val="595959"/>
                </a:solidFill>
                <a:latin typeface="Century"/>
              </a:rPr>
              <a:t>(where the kids play)</a:t>
            </a:r>
            <a:br>
              <a:rPr sz="2400"/>
            </a:br>
            <a:r>
              <a:rPr b="0" i="1" lang="en-AU" sz="2000" spc="-1" strike="noStrike">
                <a:solidFill>
                  <a:srgbClr val="595959"/>
                </a:solidFill>
                <a:latin typeface="Century"/>
              </a:rPr>
              <a:t>google</a:t>
            </a:r>
            <a:r>
              <a:rPr b="0" lang="en-AU" sz="2000" spc="-1" strike="noStrike">
                <a:solidFill>
                  <a:srgbClr val="595959"/>
                </a:solidFill>
                <a:latin typeface="Century"/>
              </a:rPr>
              <a:t>: </a:t>
            </a:r>
            <a:r>
              <a:rPr b="0" i="1" lang="en-AU" sz="1800" spc="-1" strike="noStrike">
                <a:solidFill>
                  <a:srgbClr val="595959"/>
                </a:solidFill>
                <a:latin typeface="Century"/>
              </a:rPr>
              <a:t>misskellyscommerceclass.edublogs</a:t>
            </a:r>
            <a:br>
              <a:rPr sz="1800"/>
            </a:br>
            <a:r>
              <a:rPr b="0" i="1" lang="en-AU" sz="1800" spc="-1" strike="noStrike">
                <a:solidFill>
                  <a:srgbClr val="595959"/>
                </a:solidFill>
                <a:latin typeface="Century"/>
              </a:rPr>
              <a:t>click: wiki – misskellyscommerceclass </a:t>
            </a:r>
            <a:br>
              <a:rPr sz="1800"/>
            </a:br>
            <a:r>
              <a:rPr b="0" i="1" lang="en-AU" sz="1200" spc="-1" strike="noStrike">
                <a:solidFill>
                  <a:srgbClr val="595959"/>
                </a:solidFill>
                <a:latin typeface="Century"/>
              </a:rPr>
              <a:t>I will need to invite people in </a:t>
            </a:r>
            <a:r>
              <a:rPr b="0" i="1" lang="en-AU" sz="1200" spc="-1" strike="noStrike">
                <a:solidFill>
                  <a:srgbClr val="595959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357280" y="1643040"/>
            <a:ext cx="6743880" cy="52149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9" descr="C:\Users\broo\AppData\Local\Microsoft\Windows\Temporary Internet Files\Content.IE5\TLPATGQO\MPj04393590000[1].jpg"/>
          <p:cNvPicPr/>
          <p:nvPr/>
        </p:nvPicPr>
        <p:blipFill>
          <a:blip r:embed="rId3"/>
          <a:stretch/>
        </p:blipFill>
        <p:spPr>
          <a:xfrm>
            <a:off x="68580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900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Step 5: Implement, Control, &amp; Modify</a:t>
            </a:r>
            <a:br>
              <a:rPr sz="2400"/>
            </a:br>
            <a:endParaRPr b="0" lang="en-US" sz="24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92" name="Text Placeholder 3" descr=""/>
          <p:cNvPicPr/>
          <p:nvPr/>
        </p:nvPicPr>
        <p:blipFill>
          <a:blip r:embed="rId2"/>
          <a:stretch/>
        </p:blipFill>
        <p:spPr>
          <a:xfrm>
            <a:off x="480960" y="920880"/>
            <a:ext cx="7035840" cy="29448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5"/>
          <p:cNvSpPr/>
          <p:nvPr/>
        </p:nvSpPr>
        <p:spPr>
          <a:xfrm>
            <a:off x="3214800" y="3786120"/>
            <a:ext cx="4286160" cy="2857680"/>
          </a:xfrm>
          <a:prstGeom prst="rect">
            <a:avLst/>
          </a:prstGeom>
          <a:solidFill>
            <a:srgbClr val="f8cfc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4071960" y="457200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4714920" y="457200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8"/>
          <p:cNvSpPr/>
          <p:nvPr/>
        </p:nvSpPr>
        <p:spPr>
          <a:xfrm>
            <a:off x="5357880" y="457200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9"/>
          <p:cNvSpPr/>
          <p:nvPr/>
        </p:nvSpPr>
        <p:spPr>
          <a:xfrm>
            <a:off x="6000840" y="457200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4071960" y="521496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1"/>
          <p:cNvSpPr/>
          <p:nvPr/>
        </p:nvSpPr>
        <p:spPr>
          <a:xfrm>
            <a:off x="4714920" y="521496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2"/>
          <p:cNvSpPr/>
          <p:nvPr/>
        </p:nvSpPr>
        <p:spPr>
          <a:xfrm>
            <a:off x="5357880" y="521496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6000840" y="521496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4"/>
          <p:cNvSpPr/>
          <p:nvPr/>
        </p:nvSpPr>
        <p:spPr>
          <a:xfrm>
            <a:off x="4071960" y="585792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5"/>
          <p:cNvSpPr/>
          <p:nvPr/>
        </p:nvSpPr>
        <p:spPr>
          <a:xfrm>
            <a:off x="4714920" y="585792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6"/>
          <p:cNvSpPr/>
          <p:nvPr/>
        </p:nvSpPr>
        <p:spPr>
          <a:xfrm>
            <a:off x="5357880" y="585792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7"/>
          <p:cNvSpPr/>
          <p:nvPr/>
        </p:nvSpPr>
        <p:spPr>
          <a:xfrm>
            <a:off x="4071960" y="4000680"/>
            <a:ext cx="642960" cy="285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8"/>
          <p:cNvSpPr/>
          <p:nvPr/>
        </p:nvSpPr>
        <p:spPr>
          <a:xfrm>
            <a:off x="4714920" y="4000680"/>
            <a:ext cx="642960" cy="285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9"/>
          <p:cNvSpPr/>
          <p:nvPr/>
        </p:nvSpPr>
        <p:spPr>
          <a:xfrm>
            <a:off x="5357880" y="4000680"/>
            <a:ext cx="642960" cy="285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0"/>
          <p:cNvSpPr/>
          <p:nvPr/>
        </p:nvSpPr>
        <p:spPr>
          <a:xfrm>
            <a:off x="6000840" y="4000680"/>
            <a:ext cx="642960" cy="285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1"/>
          <p:cNvSpPr/>
          <p:nvPr/>
        </p:nvSpPr>
        <p:spPr>
          <a:xfrm>
            <a:off x="6072120" y="5857920"/>
            <a:ext cx="57168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2"/>
          <p:cNvSpPr/>
          <p:nvPr/>
        </p:nvSpPr>
        <p:spPr>
          <a:xfrm>
            <a:off x="3214800" y="4000680"/>
            <a:ext cx="357120" cy="2143080"/>
          </a:xfrm>
          <a:prstGeom prst="rect">
            <a:avLst/>
          </a:prstGeom>
          <a:solidFill>
            <a:srgbClr val="675a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3"/>
          <p:cNvSpPr/>
          <p:nvPr/>
        </p:nvSpPr>
        <p:spPr>
          <a:xfrm>
            <a:off x="7143840" y="4000680"/>
            <a:ext cx="357120" cy="2143080"/>
          </a:xfrm>
          <a:prstGeom prst="rect">
            <a:avLst/>
          </a:prstGeom>
          <a:solidFill>
            <a:srgbClr val="675a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4"/>
          <p:cNvSpPr/>
          <p:nvPr/>
        </p:nvSpPr>
        <p:spPr>
          <a:xfrm>
            <a:off x="3357720" y="414324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5"/>
          <p:cNvSpPr/>
          <p:nvPr/>
        </p:nvSpPr>
        <p:spPr>
          <a:xfrm>
            <a:off x="3357720" y="442908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6"/>
          <p:cNvSpPr/>
          <p:nvPr/>
        </p:nvSpPr>
        <p:spPr>
          <a:xfrm>
            <a:off x="3357720" y="471492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7"/>
          <p:cNvSpPr/>
          <p:nvPr/>
        </p:nvSpPr>
        <p:spPr>
          <a:xfrm>
            <a:off x="3357720" y="500076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8"/>
          <p:cNvSpPr/>
          <p:nvPr/>
        </p:nvSpPr>
        <p:spPr>
          <a:xfrm>
            <a:off x="3357720" y="528624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9"/>
          <p:cNvSpPr/>
          <p:nvPr/>
        </p:nvSpPr>
        <p:spPr>
          <a:xfrm>
            <a:off x="3357720" y="557208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0"/>
          <p:cNvSpPr/>
          <p:nvPr/>
        </p:nvSpPr>
        <p:spPr>
          <a:xfrm>
            <a:off x="3357720" y="585792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1"/>
          <p:cNvSpPr/>
          <p:nvPr/>
        </p:nvSpPr>
        <p:spPr>
          <a:xfrm>
            <a:off x="7215120" y="414324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2"/>
          <p:cNvSpPr/>
          <p:nvPr/>
        </p:nvSpPr>
        <p:spPr>
          <a:xfrm>
            <a:off x="7215120" y="442908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3"/>
          <p:cNvSpPr/>
          <p:nvPr/>
        </p:nvSpPr>
        <p:spPr>
          <a:xfrm>
            <a:off x="7215120" y="471492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4"/>
          <p:cNvSpPr/>
          <p:nvPr/>
        </p:nvSpPr>
        <p:spPr>
          <a:xfrm>
            <a:off x="7215120" y="500076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5"/>
          <p:cNvSpPr/>
          <p:nvPr/>
        </p:nvSpPr>
        <p:spPr>
          <a:xfrm>
            <a:off x="7215120" y="528624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6"/>
          <p:cNvSpPr/>
          <p:nvPr/>
        </p:nvSpPr>
        <p:spPr>
          <a:xfrm>
            <a:off x="7215120" y="557208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7"/>
          <p:cNvSpPr/>
          <p:nvPr/>
        </p:nvSpPr>
        <p:spPr>
          <a:xfrm>
            <a:off x="7215120" y="585792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8"/>
          <p:cNvSpPr/>
          <p:nvPr/>
        </p:nvSpPr>
        <p:spPr>
          <a:xfrm>
            <a:off x="7643880" y="357192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classroo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39"/>
          <p:cNvSpPr/>
          <p:nvPr/>
        </p:nvSpPr>
        <p:spPr>
          <a:xfrm>
            <a:off x="7643880" y="47862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panels for lap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0"/>
          <p:cNvSpPr/>
          <p:nvPr/>
        </p:nvSpPr>
        <p:spPr>
          <a:xfrm>
            <a:off x="7715160" y="521496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laptops allocated pos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1"/>
          <p:cNvSpPr/>
          <p:nvPr/>
        </p:nvSpPr>
        <p:spPr>
          <a:xfrm>
            <a:off x="7715160" y="62150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teacher de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2"/>
          <p:cNvSpPr/>
          <p:nvPr/>
        </p:nvSpPr>
        <p:spPr>
          <a:xfrm>
            <a:off x="7715160" y="407196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student de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44"/>
          <p:cNvCxnSpPr>
            <a:stCxn id="826" idx="1"/>
          </p:cNvCxnSpPr>
          <p:nvPr/>
        </p:nvCxnSpPr>
        <p:spPr>
          <a:xfrm flipH="1">
            <a:off x="6928560" y="3714840"/>
            <a:ext cx="7153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2" name="Straight Arrow Connector 46"/>
          <p:cNvCxnSpPr>
            <a:stCxn id="830" idx="1"/>
          </p:cNvCxnSpPr>
          <p:nvPr/>
        </p:nvCxnSpPr>
        <p:spPr>
          <a:xfrm flipH="1">
            <a:off x="6714720" y="4209120"/>
            <a:ext cx="1000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3" name="Straight Arrow Connector 48"/>
          <p:cNvCxnSpPr>
            <a:stCxn id="827" idx="1"/>
          </p:cNvCxnSpPr>
          <p:nvPr/>
        </p:nvCxnSpPr>
        <p:spPr>
          <a:xfrm flipH="1">
            <a:off x="7357680" y="4923360"/>
            <a:ext cx="286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4" name="Straight Arrow Connector 50"/>
          <p:cNvCxnSpPr>
            <a:endCxn id="824" idx="3"/>
          </p:cNvCxnSpPr>
          <p:nvPr/>
        </p:nvCxnSpPr>
        <p:spPr>
          <a:xfrm flipH="1">
            <a:off x="7357320" y="5571000"/>
            <a:ext cx="5007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5" name="Straight Arrow Connector 52"/>
          <p:cNvCxnSpPr>
            <a:stCxn id="829" idx="1"/>
          </p:cNvCxnSpPr>
          <p:nvPr/>
        </p:nvCxnSpPr>
        <p:spPr>
          <a:xfrm flipH="1" flipV="1">
            <a:off x="6500160" y="6071400"/>
            <a:ext cx="1215000" cy="28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6" name="TextBox 54"/>
          <p:cNvSpPr/>
          <p:nvPr/>
        </p:nvSpPr>
        <p:spPr>
          <a:xfrm>
            <a:off x="4572000" y="628668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front of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55"/>
          <p:cNvSpPr/>
          <p:nvPr/>
        </p:nvSpPr>
        <p:spPr>
          <a:xfrm>
            <a:off x="28576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ent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0:28:51Z</dcterms:created>
  <dc:creator>Windows User</dc:creator>
  <dc:description/>
  <dc:language>en-US</dc:language>
  <cp:lastModifiedBy>DET User</cp:lastModifiedBy>
  <dcterms:modified xsi:type="dcterms:W3CDTF">2009-08-10T02:02:22Z</dcterms:modified>
  <cp:revision>23</cp:revision>
  <dc:subject/>
  <dc:title>Social Sciences</dc:title>
</cp:coreProperties>
</file>